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52482-6F2F-457D-A103-D3497CCF37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B6656-7EC3-4651-9597-91F4124473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6878D-8A8C-477A-9E8F-CA1410EBCE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Calibri"/>
              </a:rPr>
              <a:t>操作说明：点击生字格中的字，会出现笔顺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BCC27-17FD-43B4-9DDB-2F7C9FD7F0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00C-7AFB-40EC-A80C-59952E19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A6D-2590-41C8-859E-3F8B6E45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DD6-B21A-41E1-9B29-40F9D8C9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E4C-B295-4502-8F80-CF7E1F02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918-DC9A-4D09-BC1A-96F8C9D0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DFC-FE8E-4BD5-9E2C-8F557186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1AE-64C7-4D38-8405-88676C46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327-F9AA-4191-8E08-D0A251C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6FB-3BBE-42AF-950E-0B73230D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1E3-19A0-484A-B93C-FF0D3FA2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371-A82E-4930-9599-CC8FA89B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7084-2329-4F94-82C7-150B96ED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017679-15F1-4098-9EC6-6A396C8E40D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7" descr=""/>
          <p:cNvPicPr/>
          <p:nvPr/>
        </p:nvPicPr>
        <p:blipFill>
          <a:blip r:embed="rId1"/>
          <a:stretch/>
        </p:blipFill>
        <p:spPr>
          <a:xfrm>
            <a:off x="2338560" y="2247840"/>
            <a:ext cx="4976640" cy="294804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749600"/>
            <a:ext cx="722664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36"/>
          <p:cNvGrpSpPr/>
          <p:nvPr/>
        </p:nvGrpSpPr>
        <p:grpSpPr>
          <a:xfrm>
            <a:off x="2701800" y="2727360"/>
            <a:ext cx="4257720" cy="2468520"/>
            <a:chOff x="2701800" y="2727360"/>
            <a:chExt cx="4257720" cy="2468520"/>
          </a:xfrm>
        </p:grpSpPr>
        <p:sp>
          <p:nvSpPr>
            <p:cNvPr id="53" name="矩形 13324"/>
            <p:cNvSpPr/>
            <p:nvPr/>
          </p:nvSpPr>
          <p:spPr>
            <a:xfrm>
              <a:off x="2714400" y="2727360"/>
              <a:ext cx="4245120" cy="246852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矩形 47"/>
            <p:cNvSpPr/>
            <p:nvPr/>
          </p:nvSpPr>
          <p:spPr>
            <a:xfrm>
              <a:off x="2701800" y="3462840"/>
              <a:ext cx="4257720" cy="1069200"/>
            </a:xfrm>
            <a:prstGeom prst="rect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囚歌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叶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3338"/>
          <p:cNvGrpSpPr/>
          <p:nvPr/>
        </p:nvGrpSpPr>
        <p:grpSpPr>
          <a:xfrm>
            <a:off x="2160720" y="782640"/>
            <a:ext cx="4821120" cy="1181160"/>
            <a:chOff x="2160720" y="782640"/>
            <a:chExt cx="4821120" cy="1181160"/>
          </a:xfrm>
        </p:grpSpPr>
        <p:sp>
          <p:nvSpPr>
            <p:cNvPr id="56" name="Text Box 2"/>
            <p:cNvSpPr/>
            <p:nvPr/>
          </p:nvSpPr>
          <p:spPr>
            <a:xfrm>
              <a:off x="3421080" y="92988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诗二首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组合 13337"/>
            <p:cNvGrpSpPr/>
            <p:nvPr/>
          </p:nvGrpSpPr>
          <p:grpSpPr>
            <a:xfrm>
              <a:off x="2160720" y="782640"/>
              <a:ext cx="1182240" cy="1181160"/>
              <a:chOff x="2160720" y="782640"/>
              <a:chExt cx="1182240" cy="1181160"/>
            </a:xfrm>
          </p:grpSpPr>
          <p:sp>
            <p:nvSpPr>
              <p:cNvPr id="58" name="AutoShape 11"/>
              <p:cNvSpPr/>
              <p:nvPr/>
            </p:nvSpPr>
            <p:spPr>
              <a:xfrm>
                <a:off x="2162160" y="78264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文本框 13"/>
              <p:cNvSpPr/>
              <p:nvPr/>
            </p:nvSpPr>
            <p:spPr>
              <a:xfrm>
                <a:off x="2160720" y="8492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0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矩形 1"/>
          <p:cNvSpPr/>
          <p:nvPr/>
        </p:nvSpPr>
        <p:spPr>
          <a:xfrm>
            <a:off x="5661000" y="2606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第一课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2"/>
          <p:cNvGrpSpPr/>
          <p:nvPr/>
        </p:nvGrpSpPr>
        <p:grpSpPr>
          <a:xfrm>
            <a:off x="1027080" y="5681520"/>
            <a:ext cx="7089840" cy="579600"/>
            <a:chOff x="1027080" y="5681520"/>
            <a:chExt cx="7089840" cy="57960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2708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41344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525312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26" descr=""/>
            <p:cNvPicPr/>
            <p:nvPr/>
          </p:nvPicPr>
          <p:blipFill>
            <a:blip r:embed="rId7"/>
            <a:stretch/>
          </p:blipFill>
          <p:spPr>
            <a:xfrm>
              <a:off x="3830400" y="5681520"/>
              <a:ext cx="141048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任意多边形 24" descr=""/>
            <p:cNvPicPr/>
            <p:nvPr/>
          </p:nvPicPr>
          <p:blipFill>
            <a:blip r:embed="rId8"/>
            <a:stretch/>
          </p:blipFill>
          <p:spPr>
            <a:xfrm>
              <a:off x="6688080" y="5681520"/>
              <a:ext cx="14288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流程图: 摘录 25"/>
            <p:cNvSpPr/>
            <p:nvPr/>
          </p:nvSpPr>
          <p:spPr>
            <a:xfrm rot="5400000">
              <a:off x="2354040" y="5854680"/>
              <a:ext cx="129240" cy="1645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0"/>
            <p:cNvSpPr/>
            <p:nvPr/>
          </p:nvSpPr>
          <p:spPr>
            <a:xfrm rot="5400000">
              <a:off x="3759120" y="5854680"/>
              <a:ext cx="129240" cy="1645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流程图: 摘录 27"/>
            <p:cNvSpPr/>
            <p:nvPr/>
          </p:nvSpPr>
          <p:spPr>
            <a:xfrm rot="5400000">
              <a:off x="5177880" y="5852880"/>
              <a:ext cx="127800" cy="18972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流程图: 摘录 41"/>
            <p:cNvSpPr/>
            <p:nvPr/>
          </p:nvSpPr>
          <p:spPr>
            <a:xfrm rot="5400000">
              <a:off x="6624000" y="5832720"/>
              <a:ext cx="126360" cy="21960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2897280" y="1149480"/>
            <a:ext cx="38574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进出的门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紧锁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狗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爬出的洞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敞开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个声音高叫着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楷体"/>
                <a:ea typeface="楷体"/>
              </a:rPr>
              <a:t>爬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出来吧，</a:t>
            </a:r>
            <a:r>
              <a:rPr b="1" lang="zh-CN" sz="2400" spc="-1" strike="noStrike">
                <a:solidFill>
                  <a:srgbClr val="bbe0e3"/>
                </a:solidFill>
                <a:latin typeface="楷体"/>
                <a:ea typeface="楷体"/>
              </a:rPr>
              <a:t>给你自由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286080" y="254160"/>
            <a:ext cx="2571840" cy="672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1" name="矩形 1"/>
          <p:cNvSpPr/>
          <p:nvPr/>
        </p:nvSpPr>
        <p:spPr>
          <a:xfrm>
            <a:off x="582480" y="3683160"/>
            <a:ext cx="821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指坚定的革命者；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狗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指叛徒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为人进出的门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指坚贞不屈地追求真理和信仰的革命之路；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为狗爬出的洞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指出卖革命的可耻的投降之路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紧锁着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意味着失去自由甚至生命；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敞开着”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意味着获得自由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598320" y="3805200"/>
            <a:ext cx="82137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你自由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国民党反动派抛出的诱惑，然而一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爬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字则点明了这自由的本质，即人格的沦丧和气节的毁灭。这寥寥八个字，把敌人骄狂、阴险、狰狞的嘴脸活脱脱地勾画了出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云形 12"/>
          <p:cNvGrpSpPr/>
          <p:nvPr/>
        </p:nvGrpSpPr>
        <p:grpSpPr>
          <a:xfrm>
            <a:off x="865080" y="1487520"/>
            <a:ext cx="2925720" cy="987480"/>
            <a:chOff x="865080" y="1487520"/>
            <a:chExt cx="2925720" cy="987480"/>
          </a:xfrm>
        </p:grpSpPr>
        <p:pic>
          <p:nvPicPr>
            <p:cNvPr id="124" name="云形 12" descr=""/>
            <p:cNvPicPr/>
            <p:nvPr/>
          </p:nvPicPr>
          <p:blipFill>
            <a:blip r:embed="rId2"/>
            <a:stretch/>
          </p:blipFill>
          <p:spPr>
            <a:xfrm>
              <a:off x="865080" y="1487520"/>
              <a:ext cx="29257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73960" y="17146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比、铺垫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矩形 2"/>
          <p:cNvSpPr/>
          <p:nvPr/>
        </p:nvSpPr>
        <p:spPr>
          <a:xfrm>
            <a:off x="1547640" y="4632480"/>
            <a:ext cx="6566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两句话以鲜明的</a:t>
            </a:r>
            <a:r>
              <a:rPr b="1" lang="zh-CN" sz="2000" spc="-1" strike="noStrike" u="sng">
                <a:solidFill>
                  <a:srgbClr val="ff00ff"/>
                </a:solidFill>
                <a:uFillTx/>
                <a:latin typeface="宋体"/>
              </a:rPr>
              <a:t>对比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表达了作者强烈的爱憎之情，同时为后两节做了</a:t>
            </a:r>
            <a:r>
              <a:rPr b="1" lang="zh-CN" sz="2000" spc="-1" strike="noStrike" u="sng">
                <a:solidFill>
                  <a:srgbClr val="ff00ff"/>
                </a:solidFill>
                <a:uFillTx/>
                <a:latin typeface="宋体"/>
              </a:rPr>
              <a:t>铺垫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5"/>
          <p:cNvSpPr/>
          <p:nvPr/>
        </p:nvSpPr>
        <p:spPr>
          <a:xfrm>
            <a:off x="750960" y="1430280"/>
            <a:ext cx="76564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的躯体怎能从狗洞子里爬出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组合 3"/>
          <p:cNvGrpSpPr/>
          <p:nvPr/>
        </p:nvGrpSpPr>
        <p:grpSpPr>
          <a:xfrm>
            <a:off x="750960" y="2208240"/>
            <a:ext cx="7683480" cy="558720"/>
            <a:chOff x="750960" y="2208240"/>
            <a:chExt cx="7683480" cy="558720"/>
          </a:xfrm>
        </p:grpSpPr>
        <p:sp>
          <p:nvSpPr>
            <p:cNvPr id="129" name="直接连接符 4"/>
            <p:cNvSpPr/>
            <p:nvPr/>
          </p:nvSpPr>
          <p:spPr>
            <a:xfrm>
              <a:off x="750960" y="27669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任意多边形 6"/>
            <p:cNvSpPr/>
            <p:nvPr/>
          </p:nvSpPr>
          <p:spPr>
            <a:xfrm>
              <a:off x="750960" y="220824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从这个反问句中你能感受到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矩形 1"/>
          <p:cNvSpPr/>
          <p:nvPr/>
        </p:nvSpPr>
        <p:spPr>
          <a:xfrm>
            <a:off x="750960" y="3087720"/>
            <a:ext cx="76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对于身陷牢笼的人而言，自由是多么可贵，然而从狗洞里爬出的自由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丧失了尊严的自由，又怎能俯就呢？作者用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反问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语气，高傲地拒绝了国民党反动派的诱惑。革命者的凛然正气得到充分张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"/>
          <p:cNvSpPr/>
          <p:nvPr/>
        </p:nvSpPr>
        <p:spPr>
          <a:xfrm>
            <a:off x="2033640" y="99540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希望有一天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地下的烈火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我连这活棺材一齐烧掉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应该在烈火与热血中得到永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630360" y="3097080"/>
            <a:ext cx="815184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这一节用了比喻的修辞手法。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“地下的烈火”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指革命，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“活棺材”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比喻自己身处的监狱，也比喻国民党反动派统治下的黑暗社会。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“一齐烧掉”</a:t>
            </a:r>
            <a:r>
              <a:rPr b="1" lang="zh-CN" sz="2100" spc="-1" strike="noStrike">
                <a:solidFill>
                  <a:srgbClr val="ff0000"/>
                </a:solidFill>
                <a:latin typeface="Calibri"/>
              </a:rPr>
              <a:t>写革命者为了革命的胜利，宁愿献出自己的生命，与反动派同归于尽，表现了“宁为玉碎，不为瓦全”的坚强意志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任意多边形 6"/>
          <p:cNvSpPr/>
          <p:nvPr/>
        </p:nvSpPr>
        <p:spPr>
          <a:xfrm>
            <a:off x="231840" y="3287880"/>
            <a:ext cx="8244000" cy="968040"/>
          </a:xfrm>
          <a:custGeom>
            <a:avLst/>
            <a:gdLst/>
            <a:ahLst/>
            <a:rect l="l" t="t" r="r" b="b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5"/>
          <p:cNvGrpSpPr/>
          <p:nvPr/>
        </p:nvGrpSpPr>
        <p:grpSpPr>
          <a:xfrm>
            <a:off x="657360" y="3549600"/>
            <a:ext cx="7683480" cy="558720"/>
            <a:chOff x="657360" y="3549600"/>
            <a:chExt cx="7683480" cy="558720"/>
          </a:xfrm>
        </p:grpSpPr>
        <p:sp>
          <p:nvSpPr>
            <p:cNvPr id="136" name="直接连接符 7"/>
            <p:cNvSpPr/>
            <p:nvPr/>
          </p:nvSpPr>
          <p:spPr>
            <a:xfrm>
              <a:off x="657360" y="410832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任意多边形 8"/>
            <p:cNvSpPr/>
            <p:nvPr/>
          </p:nvSpPr>
          <p:spPr>
            <a:xfrm>
              <a:off x="657360" y="354960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难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：最后一节用了什么修辞手法？你是怎样理解这一节的含义的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内容占位符 2"/>
          <p:cNvSpPr/>
          <p:nvPr/>
        </p:nvSpPr>
        <p:spPr>
          <a:xfrm>
            <a:off x="925560" y="2602080"/>
            <a:ext cx="74134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人心中的“自由”有怎样的含义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囚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诗中，诗人追求的不是出卖革命、出卖灵魂所换取的身体上的自由，是真正的精神上的自由及对革命真理的坚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内容占位符 2"/>
          <p:cNvSpPr/>
          <p:nvPr/>
        </p:nvSpPr>
        <p:spPr>
          <a:xfrm>
            <a:off x="587520" y="1971720"/>
            <a:ext cx="2203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内容占位符 2"/>
          <p:cNvSpPr/>
          <p:nvPr/>
        </p:nvSpPr>
        <p:spPr>
          <a:xfrm>
            <a:off x="674640" y="1892160"/>
            <a:ext cx="770112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囚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诗是在怎样的背景下写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叶挺将军写这首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囚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时，正遭受国民党当局的长期无理拘押，被囚禁于重庆郊区的红炉厂，此处专门关押高级政治犯，是臭名昭著的中美技术合作所的“禁地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内容占位符 2"/>
          <p:cNvSpPr/>
          <p:nvPr/>
        </p:nvSpPr>
        <p:spPr>
          <a:xfrm>
            <a:off x="635040" y="1265400"/>
            <a:ext cx="2203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内容占位符 2"/>
          <p:cNvSpPr/>
          <p:nvPr/>
        </p:nvSpPr>
        <p:spPr>
          <a:xfrm>
            <a:off x="709560" y="1512720"/>
            <a:ext cx="790092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囚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中几处提到“自由”？每处“自由”指的是不是一回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诗中两处提到“自由”，分别为“一个声音高叫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爬出来吧，给你自由”和“我渴望自由”。第一处“自由”是指反动派所给的“自由”，其本质是人格的沦丧和气节的毁灭。第二处“自由”是指在彻底推翻旧世界之后，获得的真正的自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5" name="圆角矩形 13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文本框 26"/>
          <p:cNvSpPr/>
          <p:nvPr/>
        </p:nvSpPr>
        <p:spPr>
          <a:xfrm>
            <a:off x="1020960" y="2615760"/>
            <a:ext cx="8506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囚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6"/>
          <p:cNvSpPr/>
          <p:nvPr/>
        </p:nvSpPr>
        <p:spPr>
          <a:xfrm>
            <a:off x="1886040" y="2417760"/>
            <a:ext cx="447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反动派的威逼利诱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毫不动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革命者不屈的气节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坚贞不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献身革命事业的豪情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大无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左大括号 17"/>
          <p:cNvSpPr/>
          <p:nvPr/>
        </p:nvSpPr>
        <p:spPr>
          <a:xfrm>
            <a:off x="1646280" y="2695680"/>
            <a:ext cx="314280" cy="1330200"/>
          </a:xfrm>
          <a:custGeom>
            <a:avLst/>
            <a:gdLst>
              <a:gd name="textAreaLeft" fmla="*/ 200880 w 314280"/>
              <a:gd name="textAreaRight" fmla="*/ 314640 w 314280"/>
              <a:gd name="textAreaTop" fmla="*/ 7920 h 1330200"/>
              <a:gd name="textAreaBottom" fmla="*/ 1322280 h 133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3"/>
                  <a:pt x="10800" y="425"/>
                </a:cubicBezTo>
                <a:lnTo>
                  <a:pt x="10800" y="10375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3"/>
                  <a:pt x="10800" y="11225"/>
                </a:cubicBezTo>
                <a:lnTo>
                  <a:pt x="10800" y="21175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6545160" y="2558880"/>
            <a:ext cx="2394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坚持真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勇于献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左大括号 19"/>
          <p:cNvSpPr/>
          <p:nvPr/>
        </p:nvSpPr>
        <p:spPr>
          <a:xfrm flipH="1">
            <a:off x="6338160" y="2695680"/>
            <a:ext cx="266760" cy="133020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330200"/>
              <a:gd name="textAreaBottom" fmla="*/ 1323360 h 133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1"/>
                  <a:pt x="10800" y="361"/>
                </a:cubicBezTo>
                <a:lnTo>
                  <a:pt x="10800" y="10439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1"/>
                  <a:pt x="10800" y="11161"/>
                </a:cubicBezTo>
                <a:lnTo>
                  <a:pt x="10800" y="21239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内容占位符 2"/>
          <p:cNvSpPr/>
          <p:nvPr/>
        </p:nvSpPr>
        <p:spPr>
          <a:xfrm>
            <a:off x="895320" y="2343240"/>
            <a:ext cx="741672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囚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了诗人为坚持真理、维护信仰、捍卫尊严，宁愿坐牢，也不乞求“爬出来”的自由的决心，表现了诗人对革命真理的坚持和为革命事业献身的壮志豪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5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6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9" name="矩形 11"/>
          <p:cNvSpPr/>
          <p:nvPr/>
        </p:nvSpPr>
        <p:spPr>
          <a:xfrm>
            <a:off x="1003320" y="254016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囚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一首用生命和热血写成的诗，诗人运用象征和对比的表现手法，向人们昭示了革命者坚强的革命意志、崇高的革命气节和奋斗到底的革命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6"/>
          <p:cNvSpPr/>
          <p:nvPr/>
        </p:nvSpPr>
        <p:spPr>
          <a:xfrm>
            <a:off x="857160" y="2224080"/>
            <a:ext cx="758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写“棺” 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在理解的基础上能背诵，会默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作者坚贞不屈的革命气节和追求自由的理想，懂得珍惜现在的幸福生活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4"/>
          <p:cNvSpPr/>
          <p:nvPr/>
        </p:nvSpPr>
        <p:spPr>
          <a:xfrm>
            <a:off x="1190520" y="2463840"/>
            <a:ext cx="4527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叶挺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89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46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字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希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广东惠阳人，北伐名将，八一南昌起义前敌总指挥，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中国人民解放军创始人之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新四军军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5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6" name="圆角矩形 12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Picture 9" descr=""/>
          <p:cNvPicPr/>
          <p:nvPr/>
        </p:nvPicPr>
        <p:blipFill>
          <a:blip r:embed="rId3"/>
          <a:stretch/>
        </p:blipFill>
        <p:spPr>
          <a:xfrm>
            <a:off x="5913360" y="1427040"/>
            <a:ext cx="26510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躯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83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身”的最后一撇不要穿过横折钩；右部笔画粗壮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矩形 2"/>
          <p:cNvSpPr/>
          <p:nvPr/>
        </p:nvSpPr>
        <p:spPr>
          <a:xfrm>
            <a:off x="2192400" y="1825560"/>
            <a:ext cx="80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71"/>
          <p:cNvSpPr/>
          <p:nvPr/>
        </p:nvSpPr>
        <p:spPr>
          <a:xfrm>
            <a:off x="6031080" y="2811600"/>
            <a:ext cx="411120" cy="509400"/>
          </a:xfrm>
          <a:custGeom>
            <a:avLst/>
            <a:gdLst/>
            <a:ahLst/>
            <a:rect l="l" t="t" r="r" b="b"/>
            <a:pathLst>
              <a:path w="777" h="963">
                <a:moveTo>
                  <a:pt x="406" y="96"/>
                </a:moveTo>
                <a:lnTo>
                  <a:pt x="397" y="86"/>
                </a:lnTo>
                <a:lnTo>
                  <a:pt x="389" y="77"/>
                </a:lnTo>
                <a:lnTo>
                  <a:pt x="381" y="69"/>
                </a:lnTo>
                <a:lnTo>
                  <a:pt x="376" y="61"/>
                </a:lnTo>
                <a:lnTo>
                  <a:pt x="371" y="54"/>
                </a:lnTo>
                <a:lnTo>
                  <a:pt x="368" y="49"/>
                </a:lnTo>
                <a:lnTo>
                  <a:pt x="367" y="43"/>
                </a:lnTo>
                <a:lnTo>
                  <a:pt x="367" y="37"/>
                </a:lnTo>
                <a:lnTo>
                  <a:pt x="367" y="33"/>
                </a:lnTo>
                <a:lnTo>
                  <a:pt x="368" y="28"/>
                </a:lnTo>
                <a:lnTo>
                  <a:pt x="371" y="24"/>
                </a:lnTo>
                <a:lnTo>
                  <a:pt x="376" y="21"/>
                </a:lnTo>
                <a:lnTo>
                  <a:pt x="381" y="17"/>
                </a:lnTo>
                <a:lnTo>
                  <a:pt x="389" y="14"/>
                </a:lnTo>
                <a:lnTo>
                  <a:pt x="397" y="10"/>
                </a:lnTo>
                <a:lnTo>
                  <a:pt x="406" y="7"/>
                </a:lnTo>
                <a:lnTo>
                  <a:pt x="413" y="4"/>
                </a:lnTo>
                <a:lnTo>
                  <a:pt x="420" y="1"/>
                </a:lnTo>
                <a:lnTo>
                  <a:pt x="429" y="1"/>
                </a:lnTo>
                <a:lnTo>
                  <a:pt x="439" y="0"/>
                </a:lnTo>
                <a:lnTo>
                  <a:pt x="449" y="1"/>
                </a:lnTo>
                <a:lnTo>
                  <a:pt x="460" y="1"/>
                </a:lnTo>
                <a:lnTo>
                  <a:pt x="472" y="4"/>
                </a:lnTo>
                <a:lnTo>
                  <a:pt x="485" y="7"/>
                </a:lnTo>
                <a:lnTo>
                  <a:pt x="499" y="10"/>
                </a:lnTo>
                <a:lnTo>
                  <a:pt x="514" y="15"/>
                </a:lnTo>
                <a:lnTo>
                  <a:pt x="530" y="20"/>
                </a:lnTo>
                <a:lnTo>
                  <a:pt x="545" y="27"/>
                </a:lnTo>
                <a:lnTo>
                  <a:pt x="563" y="34"/>
                </a:lnTo>
                <a:lnTo>
                  <a:pt x="580" y="41"/>
                </a:lnTo>
                <a:lnTo>
                  <a:pt x="599" y="50"/>
                </a:lnTo>
                <a:lnTo>
                  <a:pt x="619" y="60"/>
                </a:lnTo>
                <a:lnTo>
                  <a:pt x="638" y="70"/>
                </a:lnTo>
                <a:lnTo>
                  <a:pt x="655" y="80"/>
                </a:lnTo>
                <a:lnTo>
                  <a:pt x="672" y="90"/>
                </a:lnTo>
                <a:lnTo>
                  <a:pt x="688" y="100"/>
                </a:lnTo>
                <a:lnTo>
                  <a:pt x="702" y="110"/>
                </a:lnTo>
                <a:lnTo>
                  <a:pt x="715" y="121"/>
                </a:lnTo>
                <a:lnTo>
                  <a:pt x="727" y="131"/>
                </a:lnTo>
                <a:lnTo>
                  <a:pt x="737" y="139"/>
                </a:lnTo>
                <a:lnTo>
                  <a:pt x="747" y="149"/>
                </a:lnTo>
                <a:lnTo>
                  <a:pt x="754" y="159"/>
                </a:lnTo>
                <a:lnTo>
                  <a:pt x="761" y="169"/>
                </a:lnTo>
                <a:lnTo>
                  <a:pt x="767" y="180"/>
                </a:lnTo>
                <a:lnTo>
                  <a:pt x="771" y="190"/>
                </a:lnTo>
                <a:lnTo>
                  <a:pt x="774" y="200"/>
                </a:lnTo>
                <a:lnTo>
                  <a:pt x="777" y="210"/>
                </a:lnTo>
                <a:lnTo>
                  <a:pt x="777" y="220"/>
                </a:lnTo>
                <a:lnTo>
                  <a:pt x="774" y="228"/>
                </a:lnTo>
                <a:lnTo>
                  <a:pt x="770" y="239"/>
                </a:lnTo>
                <a:lnTo>
                  <a:pt x="766" y="249"/>
                </a:lnTo>
                <a:lnTo>
                  <a:pt x="761" y="259"/>
                </a:lnTo>
                <a:lnTo>
                  <a:pt x="756" y="269"/>
                </a:lnTo>
                <a:lnTo>
                  <a:pt x="750" y="280"/>
                </a:lnTo>
                <a:lnTo>
                  <a:pt x="744" y="290"/>
                </a:lnTo>
                <a:lnTo>
                  <a:pt x="737" y="300"/>
                </a:lnTo>
                <a:lnTo>
                  <a:pt x="731" y="312"/>
                </a:lnTo>
                <a:lnTo>
                  <a:pt x="724" y="324"/>
                </a:lnTo>
                <a:lnTo>
                  <a:pt x="715" y="335"/>
                </a:lnTo>
                <a:lnTo>
                  <a:pt x="708" y="347"/>
                </a:lnTo>
                <a:lnTo>
                  <a:pt x="699" y="358"/>
                </a:lnTo>
                <a:lnTo>
                  <a:pt x="691" y="371"/>
                </a:lnTo>
                <a:lnTo>
                  <a:pt x="681" y="383"/>
                </a:lnTo>
                <a:lnTo>
                  <a:pt x="672" y="397"/>
                </a:lnTo>
                <a:lnTo>
                  <a:pt x="665" y="403"/>
                </a:lnTo>
                <a:lnTo>
                  <a:pt x="658" y="411"/>
                </a:lnTo>
                <a:lnTo>
                  <a:pt x="649" y="420"/>
                </a:lnTo>
                <a:lnTo>
                  <a:pt x="640" y="429"/>
                </a:lnTo>
                <a:lnTo>
                  <a:pt x="630" y="439"/>
                </a:lnTo>
                <a:lnTo>
                  <a:pt x="620" y="449"/>
                </a:lnTo>
                <a:lnTo>
                  <a:pt x="610" y="460"/>
                </a:lnTo>
                <a:lnTo>
                  <a:pt x="599" y="472"/>
                </a:lnTo>
                <a:lnTo>
                  <a:pt x="586" y="485"/>
                </a:lnTo>
                <a:lnTo>
                  <a:pt x="573" y="498"/>
                </a:lnTo>
                <a:lnTo>
                  <a:pt x="560" y="512"/>
                </a:lnTo>
                <a:lnTo>
                  <a:pt x="545" y="527"/>
                </a:lnTo>
                <a:lnTo>
                  <a:pt x="531" y="542"/>
                </a:lnTo>
                <a:lnTo>
                  <a:pt x="515" y="558"/>
                </a:lnTo>
                <a:lnTo>
                  <a:pt x="499" y="574"/>
                </a:lnTo>
                <a:lnTo>
                  <a:pt x="482" y="591"/>
                </a:lnTo>
                <a:lnTo>
                  <a:pt x="465" y="610"/>
                </a:lnTo>
                <a:lnTo>
                  <a:pt x="448" y="629"/>
                </a:lnTo>
                <a:lnTo>
                  <a:pt x="429" y="649"/>
                </a:lnTo>
                <a:lnTo>
                  <a:pt x="409" y="669"/>
                </a:lnTo>
                <a:lnTo>
                  <a:pt x="389" y="689"/>
                </a:lnTo>
                <a:lnTo>
                  <a:pt x="368" y="711"/>
                </a:lnTo>
                <a:lnTo>
                  <a:pt x="347" y="732"/>
                </a:lnTo>
                <a:lnTo>
                  <a:pt x="325" y="755"/>
                </a:lnTo>
                <a:lnTo>
                  <a:pt x="302" y="778"/>
                </a:lnTo>
                <a:lnTo>
                  <a:pt x="278" y="803"/>
                </a:lnTo>
                <a:lnTo>
                  <a:pt x="255" y="827"/>
                </a:lnTo>
                <a:lnTo>
                  <a:pt x="229" y="853"/>
                </a:lnTo>
                <a:lnTo>
                  <a:pt x="204" y="879"/>
                </a:lnTo>
                <a:lnTo>
                  <a:pt x="177" y="907"/>
                </a:lnTo>
                <a:lnTo>
                  <a:pt x="151" y="934"/>
                </a:lnTo>
                <a:lnTo>
                  <a:pt x="124" y="963"/>
                </a:lnTo>
                <a:lnTo>
                  <a:pt x="62" y="953"/>
                </a:lnTo>
                <a:lnTo>
                  <a:pt x="0" y="944"/>
                </a:lnTo>
                <a:lnTo>
                  <a:pt x="19" y="917"/>
                </a:lnTo>
                <a:lnTo>
                  <a:pt x="37" y="889"/>
                </a:lnTo>
                <a:lnTo>
                  <a:pt x="56" y="862"/>
                </a:lnTo>
                <a:lnTo>
                  <a:pt x="75" y="836"/>
                </a:lnTo>
                <a:lnTo>
                  <a:pt x="92" y="810"/>
                </a:lnTo>
                <a:lnTo>
                  <a:pt x="111" y="786"/>
                </a:lnTo>
                <a:lnTo>
                  <a:pt x="126" y="761"/>
                </a:lnTo>
                <a:lnTo>
                  <a:pt x="144" y="737"/>
                </a:lnTo>
                <a:lnTo>
                  <a:pt x="160" y="714"/>
                </a:lnTo>
                <a:lnTo>
                  <a:pt x="175" y="692"/>
                </a:lnTo>
                <a:lnTo>
                  <a:pt x="191" y="669"/>
                </a:lnTo>
                <a:lnTo>
                  <a:pt x="206" y="647"/>
                </a:lnTo>
                <a:lnTo>
                  <a:pt x="220" y="627"/>
                </a:lnTo>
                <a:lnTo>
                  <a:pt x="234" y="607"/>
                </a:lnTo>
                <a:lnTo>
                  <a:pt x="249" y="587"/>
                </a:lnTo>
                <a:lnTo>
                  <a:pt x="262" y="568"/>
                </a:lnTo>
                <a:lnTo>
                  <a:pt x="275" y="550"/>
                </a:lnTo>
                <a:lnTo>
                  <a:pt x="286" y="531"/>
                </a:lnTo>
                <a:lnTo>
                  <a:pt x="298" y="514"/>
                </a:lnTo>
                <a:lnTo>
                  <a:pt x="309" y="496"/>
                </a:lnTo>
                <a:lnTo>
                  <a:pt x="321" y="479"/>
                </a:lnTo>
                <a:lnTo>
                  <a:pt x="331" y="463"/>
                </a:lnTo>
                <a:lnTo>
                  <a:pt x="341" y="447"/>
                </a:lnTo>
                <a:lnTo>
                  <a:pt x="350" y="431"/>
                </a:lnTo>
                <a:lnTo>
                  <a:pt x="358" y="417"/>
                </a:lnTo>
                <a:lnTo>
                  <a:pt x="367" y="403"/>
                </a:lnTo>
                <a:lnTo>
                  <a:pt x="374" y="388"/>
                </a:lnTo>
                <a:lnTo>
                  <a:pt x="383" y="375"/>
                </a:lnTo>
                <a:lnTo>
                  <a:pt x="389" y="362"/>
                </a:lnTo>
                <a:lnTo>
                  <a:pt x="396" y="349"/>
                </a:lnTo>
                <a:lnTo>
                  <a:pt x="400" y="336"/>
                </a:lnTo>
                <a:lnTo>
                  <a:pt x="406" y="325"/>
                </a:lnTo>
                <a:lnTo>
                  <a:pt x="414" y="305"/>
                </a:lnTo>
                <a:lnTo>
                  <a:pt x="423" y="286"/>
                </a:lnTo>
                <a:lnTo>
                  <a:pt x="430" y="269"/>
                </a:lnTo>
                <a:lnTo>
                  <a:pt x="436" y="252"/>
                </a:lnTo>
                <a:lnTo>
                  <a:pt x="440" y="236"/>
                </a:lnTo>
                <a:lnTo>
                  <a:pt x="443" y="220"/>
                </a:lnTo>
                <a:lnTo>
                  <a:pt x="445" y="204"/>
                </a:lnTo>
                <a:lnTo>
                  <a:pt x="445" y="190"/>
                </a:lnTo>
                <a:lnTo>
                  <a:pt x="445" y="177"/>
                </a:lnTo>
                <a:lnTo>
                  <a:pt x="443" y="164"/>
                </a:lnTo>
                <a:lnTo>
                  <a:pt x="440" y="151"/>
                </a:lnTo>
                <a:lnTo>
                  <a:pt x="436" y="139"/>
                </a:lnTo>
                <a:lnTo>
                  <a:pt x="430" y="128"/>
                </a:lnTo>
                <a:lnTo>
                  <a:pt x="423" y="116"/>
                </a:lnTo>
                <a:lnTo>
                  <a:pt x="414" y="106"/>
                </a:lnTo>
                <a:lnTo>
                  <a:pt x="406" y="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72"/>
          <p:cNvSpPr/>
          <p:nvPr/>
        </p:nvSpPr>
        <p:spPr>
          <a:xfrm>
            <a:off x="5865840" y="3270240"/>
            <a:ext cx="155520" cy="912960"/>
          </a:xfrm>
          <a:custGeom>
            <a:avLst/>
            <a:gdLst/>
            <a:ahLst/>
            <a:rect l="l" t="t" r="r" b="b"/>
            <a:pathLst>
              <a:path w="295" h="1724">
                <a:moveTo>
                  <a:pt x="261" y="43"/>
                </a:moveTo>
                <a:lnTo>
                  <a:pt x="263" y="170"/>
                </a:lnTo>
                <a:lnTo>
                  <a:pt x="266" y="295"/>
                </a:lnTo>
                <a:lnTo>
                  <a:pt x="269" y="416"/>
                </a:lnTo>
                <a:lnTo>
                  <a:pt x="272" y="534"/>
                </a:lnTo>
                <a:lnTo>
                  <a:pt x="276" y="650"/>
                </a:lnTo>
                <a:lnTo>
                  <a:pt x="279" y="760"/>
                </a:lnTo>
                <a:lnTo>
                  <a:pt x="281" y="868"/>
                </a:lnTo>
                <a:lnTo>
                  <a:pt x="284" y="973"/>
                </a:lnTo>
                <a:lnTo>
                  <a:pt x="286" y="1076"/>
                </a:lnTo>
                <a:lnTo>
                  <a:pt x="288" y="1175"/>
                </a:lnTo>
                <a:lnTo>
                  <a:pt x="291" y="1271"/>
                </a:lnTo>
                <a:lnTo>
                  <a:pt x="292" y="1364"/>
                </a:lnTo>
                <a:lnTo>
                  <a:pt x="294" y="1454"/>
                </a:lnTo>
                <a:lnTo>
                  <a:pt x="294" y="1541"/>
                </a:lnTo>
                <a:lnTo>
                  <a:pt x="295" y="1624"/>
                </a:lnTo>
                <a:lnTo>
                  <a:pt x="295" y="1706"/>
                </a:lnTo>
                <a:lnTo>
                  <a:pt x="207" y="1715"/>
                </a:lnTo>
                <a:lnTo>
                  <a:pt x="119" y="1724"/>
                </a:lnTo>
                <a:lnTo>
                  <a:pt x="118" y="1663"/>
                </a:lnTo>
                <a:lnTo>
                  <a:pt x="118" y="1604"/>
                </a:lnTo>
                <a:lnTo>
                  <a:pt x="118" y="1545"/>
                </a:lnTo>
                <a:lnTo>
                  <a:pt x="118" y="1489"/>
                </a:lnTo>
                <a:lnTo>
                  <a:pt x="118" y="1434"/>
                </a:lnTo>
                <a:lnTo>
                  <a:pt x="117" y="1379"/>
                </a:lnTo>
                <a:lnTo>
                  <a:pt x="117" y="1328"/>
                </a:lnTo>
                <a:lnTo>
                  <a:pt x="115" y="1276"/>
                </a:lnTo>
                <a:lnTo>
                  <a:pt x="115" y="1227"/>
                </a:lnTo>
                <a:lnTo>
                  <a:pt x="114" y="1178"/>
                </a:lnTo>
                <a:lnTo>
                  <a:pt x="114" y="1130"/>
                </a:lnTo>
                <a:lnTo>
                  <a:pt x="112" y="1086"/>
                </a:lnTo>
                <a:lnTo>
                  <a:pt x="111" y="1041"/>
                </a:lnTo>
                <a:lnTo>
                  <a:pt x="109" y="998"/>
                </a:lnTo>
                <a:lnTo>
                  <a:pt x="109" y="956"/>
                </a:lnTo>
                <a:lnTo>
                  <a:pt x="108" y="916"/>
                </a:lnTo>
                <a:lnTo>
                  <a:pt x="107" y="878"/>
                </a:lnTo>
                <a:lnTo>
                  <a:pt x="105" y="841"/>
                </a:lnTo>
                <a:lnTo>
                  <a:pt x="104" y="805"/>
                </a:lnTo>
                <a:lnTo>
                  <a:pt x="102" y="770"/>
                </a:lnTo>
                <a:lnTo>
                  <a:pt x="101" y="737"/>
                </a:lnTo>
                <a:lnTo>
                  <a:pt x="99" y="706"/>
                </a:lnTo>
                <a:lnTo>
                  <a:pt x="98" y="675"/>
                </a:lnTo>
                <a:lnTo>
                  <a:pt x="96" y="647"/>
                </a:lnTo>
                <a:lnTo>
                  <a:pt x="95" y="619"/>
                </a:lnTo>
                <a:lnTo>
                  <a:pt x="94" y="593"/>
                </a:lnTo>
                <a:lnTo>
                  <a:pt x="92" y="569"/>
                </a:lnTo>
                <a:lnTo>
                  <a:pt x="91" y="546"/>
                </a:lnTo>
                <a:lnTo>
                  <a:pt x="88" y="524"/>
                </a:lnTo>
                <a:lnTo>
                  <a:pt x="86" y="504"/>
                </a:lnTo>
                <a:lnTo>
                  <a:pt x="85" y="485"/>
                </a:lnTo>
                <a:lnTo>
                  <a:pt x="83" y="468"/>
                </a:lnTo>
                <a:lnTo>
                  <a:pt x="81" y="435"/>
                </a:lnTo>
                <a:lnTo>
                  <a:pt x="76" y="403"/>
                </a:lnTo>
                <a:lnTo>
                  <a:pt x="72" y="373"/>
                </a:lnTo>
                <a:lnTo>
                  <a:pt x="68" y="344"/>
                </a:lnTo>
                <a:lnTo>
                  <a:pt x="62" y="317"/>
                </a:lnTo>
                <a:lnTo>
                  <a:pt x="58" y="291"/>
                </a:lnTo>
                <a:lnTo>
                  <a:pt x="53" y="267"/>
                </a:lnTo>
                <a:lnTo>
                  <a:pt x="50" y="255"/>
                </a:lnTo>
                <a:lnTo>
                  <a:pt x="47" y="244"/>
                </a:lnTo>
                <a:lnTo>
                  <a:pt x="45" y="233"/>
                </a:lnTo>
                <a:lnTo>
                  <a:pt x="43" y="222"/>
                </a:lnTo>
                <a:lnTo>
                  <a:pt x="40" y="212"/>
                </a:lnTo>
                <a:lnTo>
                  <a:pt x="37" y="202"/>
                </a:lnTo>
                <a:lnTo>
                  <a:pt x="35" y="193"/>
                </a:lnTo>
                <a:lnTo>
                  <a:pt x="33" y="183"/>
                </a:lnTo>
                <a:lnTo>
                  <a:pt x="30" y="174"/>
                </a:lnTo>
                <a:lnTo>
                  <a:pt x="29" y="166"/>
                </a:lnTo>
                <a:lnTo>
                  <a:pt x="26" y="159"/>
                </a:lnTo>
                <a:lnTo>
                  <a:pt x="23" y="151"/>
                </a:lnTo>
                <a:lnTo>
                  <a:pt x="22" y="144"/>
                </a:lnTo>
                <a:lnTo>
                  <a:pt x="20" y="137"/>
                </a:lnTo>
                <a:lnTo>
                  <a:pt x="17" y="131"/>
                </a:lnTo>
                <a:lnTo>
                  <a:pt x="16" y="124"/>
                </a:lnTo>
                <a:lnTo>
                  <a:pt x="14" y="120"/>
                </a:lnTo>
                <a:lnTo>
                  <a:pt x="13" y="114"/>
                </a:lnTo>
                <a:lnTo>
                  <a:pt x="9" y="104"/>
                </a:lnTo>
                <a:lnTo>
                  <a:pt x="7" y="95"/>
                </a:lnTo>
                <a:lnTo>
                  <a:pt x="4" y="87"/>
                </a:lnTo>
                <a:lnTo>
                  <a:pt x="3" y="78"/>
                </a:lnTo>
                <a:lnTo>
                  <a:pt x="1" y="69"/>
                </a:lnTo>
                <a:lnTo>
                  <a:pt x="0" y="62"/>
                </a:lnTo>
                <a:lnTo>
                  <a:pt x="0" y="55"/>
                </a:lnTo>
                <a:lnTo>
                  <a:pt x="0" y="48"/>
                </a:lnTo>
                <a:lnTo>
                  <a:pt x="0" y="41"/>
                </a:lnTo>
                <a:lnTo>
                  <a:pt x="0" y="35"/>
                </a:lnTo>
                <a:lnTo>
                  <a:pt x="1" y="29"/>
                </a:lnTo>
                <a:lnTo>
                  <a:pt x="3" y="25"/>
                </a:lnTo>
                <a:lnTo>
                  <a:pt x="4" y="19"/>
                </a:lnTo>
                <a:lnTo>
                  <a:pt x="7" y="15"/>
                </a:lnTo>
                <a:lnTo>
                  <a:pt x="9" y="12"/>
                </a:lnTo>
                <a:lnTo>
                  <a:pt x="13" y="7"/>
                </a:lnTo>
                <a:lnTo>
                  <a:pt x="14" y="6"/>
                </a:lnTo>
                <a:lnTo>
                  <a:pt x="16" y="5"/>
                </a:lnTo>
                <a:lnTo>
                  <a:pt x="19" y="3"/>
                </a:lnTo>
                <a:lnTo>
                  <a:pt x="22" y="2"/>
                </a:lnTo>
                <a:lnTo>
                  <a:pt x="26" y="2"/>
                </a:lnTo>
                <a:lnTo>
                  <a:pt x="30" y="0"/>
                </a:lnTo>
                <a:lnTo>
                  <a:pt x="35" y="0"/>
                </a:lnTo>
                <a:lnTo>
                  <a:pt x="39" y="0"/>
                </a:lnTo>
                <a:lnTo>
                  <a:pt x="43" y="0"/>
                </a:lnTo>
                <a:lnTo>
                  <a:pt x="49" y="0"/>
                </a:lnTo>
                <a:lnTo>
                  <a:pt x="55" y="0"/>
                </a:lnTo>
                <a:lnTo>
                  <a:pt x="62" y="2"/>
                </a:lnTo>
                <a:lnTo>
                  <a:pt x="68" y="2"/>
                </a:lnTo>
                <a:lnTo>
                  <a:pt x="75" y="3"/>
                </a:lnTo>
                <a:lnTo>
                  <a:pt x="82" y="3"/>
                </a:lnTo>
                <a:lnTo>
                  <a:pt x="89" y="5"/>
                </a:lnTo>
                <a:lnTo>
                  <a:pt x="98" y="6"/>
                </a:lnTo>
                <a:lnTo>
                  <a:pt x="107" y="7"/>
                </a:lnTo>
                <a:lnTo>
                  <a:pt x="124" y="10"/>
                </a:lnTo>
                <a:lnTo>
                  <a:pt x="144" y="15"/>
                </a:lnTo>
                <a:lnTo>
                  <a:pt x="164" y="19"/>
                </a:lnTo>
                <a:lnTo>
                  <a:pt x="186" y="25"/>
                </a:lnTo>
                <a:lnTo>
                  <a:pt x="210" y="30"/>
                </a:lnTo>
                <a:lnTo>
                  <a:pt x="235" y="36"/>
                </a:lnTo>
                <a:lnTo>
                  <a:pt x="261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73"/>
          <p:cNvSpPr/>
          <p:nvPr/>
        </p:nvSpPr>
        <p:spPr>
          <a:xfrm>
            <a:off x="5937120" y="3198960"/>
            <a:ext cx="636840" cy="1892160"/>
          </a:xfrm>
          <a:custGeom>
            <a:avLst/>
            <a:gdLst/>
            <a:ahLst/>
            <a:rect l="l" t="t" r="r" b="b"/>
            <a:pathLst>
              <a:path w="1202" h="3574">
                <a:moveTo>
                  <a:pt x="566" y="3185"/>
                </a:moveTo>
                <a:lnTo>
                  <a:pt x="554" y="3176"/>
                </a:lnTo>
                <a:lnTo>
                  <a:pt x="544" y="3168"/>
                </a:lnTo>
                <a:lnTo>
                  <a:pt x="534" y="3159"/>
                </a:lnTo>
                <a:lnTo>
                  <a:pt x="524" y="3152"/>
                </a:lnTo>
                <a:lnTo>
                  <a:pt x="514" y="3145"/>
                </a:lnTo>
                <a:lnTo>
                  <a:pt x="505" y="3136"/>
                </a:lnTo>
                <a:lnTo>
                  <a:pt x="496" y="3129"/>
                </a:lnTo>
                <a:lnTo>
                  <a:pt x="489" y="3122"/>
                </a:lnTo>
                <a:lnTo>
                  <a:pt x="482" y="3114"/>
                </a:lnTo>
                <a:lnTo>
                  <a:pt x="475" y="3107"/>
                </a:lnTo>
                <a:lnTo>
                  <a:pt x="468" y="3100"/>
                </a:lnTo>
                <a:lnTo>
                  <a:pt x="462" y="3094"/>
                </a:lnTo>
                <a:lnTo>
                  <a:pt x="456" y="3087"/>
                </a:lnTo>
                <a:lnTo>
                  <a:pt x="452" y="3081"/>
                </a:lnTo>
                <a:lnTo>
                  <a:pt x="446" y="3075"/>
                </a:lnTo>
                <a:lnTo>
                  <a:pt x="442" y="3068"/>
                </a:lnTo>
                <a:lnTo>
                  <a:pt x="437" y="3064"/>
                </a:lnTo>
                <a:lnTo>
                  <a:pt x="434" y="3058"/>
                </a:lnTo>
                <a:lnTo>
                  <a:pt x="432" y="3052"/>
                </a:lnTo>
                <a:lnTo>
                  <a:pt x="429" y="3048"/>
                </a:lnTo>
                <a:lnTo>
                  <a:pt x="426" y="3042"/>
                </a:lnTo>
                <a:lnTo>
                  <a:pt x="424" y="3038"/>
                </a:lnTo>
                <a:lnTo>
                  <a:pt x="423" y="3034"/>
                </a:lnTo>
                <a:lnTo>
                  <a:pt x="422" y="3029"/>
                </a:lnTo>
                <a:lnTo>
                  <a:pt x="420" y="3027"/>
                </a:lnTo>
                <a:lnTo>
                  <a:pt x="420" y="3022"/>
                </a:lnTo>
                <a:lnTo>
                  <a:pt x="420" y="3016"/>
                </a:lnTo>
                <a:lnTo>
                  <a:pt x="422" y="3011"/>
                </a:lnTo>
                <a:lnTo>
                  <a:pt x="424" y="3008"/>
                </a:lnTo>
                <a:lnTo>
                  <a:pt x="427" y="3003"/>
                </a:lnTo>
                <a:lnTo>
                  <a:pt x="433" y="3002"/>
                </a:lnTo>
                <a:lnTo>
                  <a:pt x="439" y="3001"/>
                </a:lnTo>
                <a:lnTo>
                  <a:pt x="446" y="2999"/>
                </a:lnTo>
                <a:lnTo>
                  <a:pt x="455" y="2999"/>
                </a:lnTo>
                <a:lnTo>
                  <a:pt x="463" y="3001"/>
                </a:lnTo>
                <a:lnTo>
                  <a:pt x="475" y="3001"/>
                </a:lnTo>
                <a:lnTo>
                  <a:pt x="485" y="3002"/>
                </a:lnTo>
                <a:lnTo>
                  <a:pt x="498" y="3005"/>
                </a:lnTo>
                <a:lnTo>
                  <a:pt x="511" y="3006"/>
                </a:lnTo>
                <a:lnTo>
                  <a:pt x="524" y="3009"/>
                </a:lnTo>
                <a:lnTo>
                  <a:pt x="538" y="3012"/>
                </a:lnTo>
                <a:lnTo>
                  <a:pt x="553" y="3015"/>
                </a:lnTo>
                <a:lnTo>
                  <a:pt x="568" y="3018"/>
                </a:lnTo>
                <a:lnTo>
                  <a:pt x="584" y="3022"/>
                </a:lnTo>
                <a:lnTo>
                  <a:pt x="601" y="3025"/>
                </a:lnTo>
                <a:lnTo>
                  <a:pt x="617" y="3032"/>
                </a:lnTo>
                <a:lnTo>
                  <a:pt x="632" y="3038"/>
                </a:lnTo>
                <a:lnTo>
                  <a:pt x="648" y="3044"/>
                </a:lnTo>
                <a:lnTo>
                  <a:pt x="661" y="3048"/>
                </a:lnTo>
                <a:lnTo>
                  <a:pt x="675" y="3052"/>
                </a:lnTo>
                <a:lnTo>
                  <a:pt x="686" y="3057"/>
                </a:lnTo>
                <a:lnTo>
                  <a:pt x="699" y="3060"/>
                </a:lnTo>
                <a:lnTo>
                  <a:pt x="711" y="3062"/>
                </a:lnTo>
                <a:lnTo>
                  <a:pt x="722" y="3065"/>
                </a:lnTo>
                <a:lnTo>
                  <a:pt x="734" y="3067"/>
                </a:lnTo>
                <a:lnTo>
                  <a:pt x="744" y="3067"/>
                </a:lnTo>
                <a:lnTo>
                  <a:pt x="756" y="3067"/>
                </a:lnTo>
                <a:lnTo>
                  <a:pt x="766" y="3067"/>
                </a:lnTo>
                <a:lnTo>
                  <a:pt x="776" y="3065"/>
                </a:lnTo>
                <a:lnTo>
                  <a:pt x="786" y="3064"/>
                </a:lnTo>
                <a:lnTo>
                  <a:pt x="796" y="3061"/>
                </a:lnTo>
                <a:lnTo>
                  <a:pt x="799" y="3058"/>
                </a:lnTo>
                <a:lnTo>
                  <a:pt x="802" y="3055"/>
                </a:lnTo>
                <a:lnTo>
                  <a:pt x="804" y="3052"/>
                </a:lnTo>
                <a:lnTo>
                  <a:pt x="807" y="3050"/>
                </a:lnTo>
                <a:lnTo>
                  <a:pt x="810" y="3045"/>
                </a:lnTo>
                <a:lnTo>
                  <a:pt x="813" y="3041"/>
                </a:lnTo>
                <a:lnTo>
                  <a:pt x="816" y="3035"/>
                </a:lnTo>
                <a:lnTo>
                  <a:pt x="819" y="3029"/>
                </a:lnTo>
                <a:lnTo>
                  <a:pt x="822" y="3024"/>
                </a:lnTo>
                <a:lnTo>
                  <a:pt x="823" y="3016"/>
                </a:lnTo>
                <a:lnTo>
                  <a:pt x="826" y="3009"/>
                </a:lnTo>
                <a:lnTo>
                  <a:pt x="829" y="3001"/>
                </a:lnTo>
                <a:lnTo>
                  <a:pt x="830" y="2992"/>
                </a:lnTo>
                <a:lnTo>
                  <a:pt x="833" y="2983"/>
                </a:lnTo>
                <a:lnTo>
                  <a:pt x="835" y="2973"/>
                </a:lnTo>
                <a:lnTo>
                  <a:pt x="838" y="2963"/>
                </a:lnTo>
                <a:lnTo>
                  <a:pt x="839" y="2952"/>
                </a:lnTo>
                <a:lnTo>
                  <a:pt x="842" y="2940"/>
                </a:lnTo>
                <a:lnTo>
                  <a:pt x="843" y="2929"/>
                </a:lnTo>
                <a:lnTo>
                  <a:pt x="845" y="2914"/>
                </a:lnTo>
                <a:lnTo>
                  <a:pt x="848" y="2901"/>
                </a:lnTo>
                <a:lnTo>
                  <a:pt x="849" y="2887"/>
                </a:lnTo>
                <a:lnTo>
                  <a:pt x="851" y="2872"/>
                </a:lnTo>
                <a:lnTo>
                  <a:pt x="852" y="2857"/>
                </a:lnTo>
                <a:lnTo>
                  <a:pt x="853" y="2841"/>
                </a:lnTo>
                <a:lnTo>
                  <a:pt x="856" y="2824"/>
                </a:lnTo>
                <a:lnTo>
                  <a:pt x="858" y="2806"/>
                </a:lnTo>
                <a:lnTo>
                  <a:pt x="859" y="2788"/>
                </a:lnTo>
                <a:lnTo>
                  <a:pt x="861" y="2769"/>
                </a:lnTo>
                <a:lnTo>
                  <a:pt x="862" y="2749"/>
                </a:lnTo>
                <a:lnTo>
                  <a:pt x="864" y="2728"/>
                </a:lnTo>
                <a:lnTo>
                  <a:pt x="866" y="2707"/>
                </a:lnTo>
                <a:lnTo>
                  <a:pt x="869" y="2667"/>
                </a:lnTo>
                <a:lnTo>
                  <a:pt x="872" y="2626"/>
                </a:lnTo>
                <a:lnTo>
                  <a:pt x="874" y="2583"/>
                </a:lnTo>
                <a:lnTo>
                  <a:pt x="876" y="2541"/>
                </a:lnTo>
                <a:lnTo>
                  <a:pt x="878" y="2497"/>
                </a:lnTo>
                <a:lnTo>
                  <a:pt x="881" y="2452"/>
                </a:lnTo>
                <a:lnTo>
                  <a:pt x="882" y="2406"/>
                </a:lnTo>
                <a:lnTo>
                  <a:pt x="884" y="2360"/>
                </a:lnTo>
                <a:lnTo>
                  <a:pt x="885" y="2312"/>
                </a:lnTo>
                <a:lnTo>
                  <a:pt x="888" y="2263"/>
                </a:lnTo>
                <a:lnTo>
                  <a:pt x="889" y="2213"/>
                </a:lnTo>
                <a:lnTo>
                  <a:pt x="891" y="2163"/>
                </a:lnTo>
                <a:lnTo>
                  <a:pt x="894" y="2109"/>
                </a:lnTo>
                <a:lnTo>
                  <a:pt x="897" y="2056"/>
                </a:lnTo>
                <a:lnTo>
                  <a:pt x="898" y="2001"/>
                </a:lnTo>
                <a:lnTo>
                  <a:pt x="902" y="1947"/>
                </a:lnTo>
                <a:lnTo>
                  <a:pt x="902" y="1894"/>
                </a:lnTo>
                <a:lnTo>
                  <a:pt x="902" y="1840"/>
                </a:lnTo>
                <a:lnTo>
                  <a:pt x="902" y="1788"/>
                </a:lnTo>
                <a:lnTo>
                  <a:pt x="902" y="1738"/>
                </a:lnTo>
                <a:lnTo>
                  <a:pt x="902" y="1686"/>
                </a:lnTo>
                <a:lnTo>
                  <a:pt x="902" y="1636"/>
                </a:lnTo>
                <a:lnTo>
                  <a:pt x="902" y="1587"/>
                </a:lnTo>
                <a:lnTo>
                  <a:pt x="902" y="1536"/>
                </a:lnTo>
                <a:lnTo>
                  <a:pt x="902" y="1489"/>
                </a:lnTo>
                <a:lnTo>
                  <a:pt x="902" y="1440"/>
                </a:lnTo>
                <a:lnTo>
                  <a:pt x="902" y="1393"/>
                </a:lnTo>
                <a:lnTo>
                  <a:pt x="902" y="1346"/>
                </a:lnTo>
                <a:lnTo>
                  <a:pt x="902" y="1300"/>
                </a:lnTo>
                <a:lnTo>
                  <a:pt x="902" y="1256"/>
                </a:lnTo>
                <a:lnTo>
                  <a:pt x="902" y="1211"/>
                </a:lnTo>
                <a:lnTo>
                  <a:pt x="902" y="1168"/>
                </a:lnTo>
                <a:lnTo>
                  <a:pt x="902" y="1125"/>
                </a:lnTo>
                <a:lnTo>
                  <a:pt x="902" y="1083"/>
                </a:lnTo>
                <a:lnTo>
                  <a:pt x="902" y="1043"/>
                </a:lnTo>
                <a:lnTo>
                  <a:pt x="902" y="1002"/>
                </a:lnTo>
                <a:lnTo>
                  <a:pt x="902" y="962"/>
                </a:lnTo>
                <a:lnTo>
                  <a:pt x="902" y="923"/>
                </a:lnTo>
                <a:lnTo>
                  <a:pt x="902" y="884"/>
                </a:lnTo>
                <a:lnTo>
                  <a:pt x="902" y="847"/>
                </a:lnTo>
                <a:lnTo>
                  <a:pt x="902" y="809"/>
                </a:lnTo>
                <a:lnTo>
                  <a:pt x="902" y="773"/>
                </a:lnTo>
                <a:lnTo>
                  <a:pt x="902" y="737"/>
                </a:lnTo>
                <a:lnTo>
                  <a:pt x="902" y="703"/>
                </a:lnTo>
                <a:lnTo>
                  <a:pt x="902" y="668"/>
                </a:lnTo>
                <a:lnTo>
                  <a:pt x="902" y="634"/>
                </a:lnTo>
                <a:lnTo>
                  <a:pt x="902" y="599"/>
                </a:lnTo>
                <a:lnTo>
                  <a:pt x="902" y="566"/>
                </a:lnTo>
                <a:lnTo>
                  <a:pt x="901" y="550"/>
                </a:lnTo>
                <a:lnTo>
                  <a:pt x="901" y="534"/>
                </a:lnTo>
                <a:lnTo>
                  <a:pt x="901" y="519"/>
                </a:lnTo>
                <a:lnTo>
                  <a:pt x="901" y="503"/>
                </a:lnTo>
                <a:lnTo>
                  <a:pt x="901" y="488"/>
                </a:lnTo>
                <a:lnTo>
                  <a:pt x="899" y="474"/>
                </a:lnTo>
                <a:lnTo>
                  <a:pt x="899" y="460"/>
                </a:lnTo>
                <a:lnTo>
                  <a:pt x="898" y="447"/>
                </a:lnTo>
                <a:lnTo>
                  <a:pt x="898" y="434"/>
                </a:lnTo>
                <a:lnTo>
                  <a:pt x="897" y="421"/>
                </a:lnTo>
                <a:lnTo>
                  <a:pt x="895" y="409"/>
                </a:lnTo>
                <a:lnTo>
                  <a:pt x="894" y="398"/>
                </a:lnTo>
                <a:lnTo>
                  <a:pt x="892" y="386"/>
                </a:lnTo>
                <a:lnTo>
                  <a:pt x="891" y="375"/>
                </a:lnTo>
                <a:lnTo>
                  <a:pt x="889" y="365"/>
                </a:lnTo>
                <a:lnTo>
                  <a:pt x="888" y="355"/>
                </a:lnTo>
                <a:lnTo>
                  <a:pt x="887" y="344"/>
                </a:lnTo>
                <a:lnTo>
                  <a:pt x="885" y="334"/>
                </a:lnTo>
                <a:lnTo>
                  <a:pt x="882" y="326"/>
                </a:lnTo>
                <a:lnTo>
                  <a:pt x="881" y="317"/>
                </a:lnTo>
                <a:lnTo>
                  <a:pt x="879" y="310"/>
                </a:lnTo>
                <a:lnTo>
                  <a:pt x="876" y="301"/>
                </a:lnTo>
                <a:lnTo>
                  <a:pt x="874" y="294"/>
                </a:lnTo>
                <a:lnTo>
                  <a:pt x="872" y="288"/>
                </a:lnTo>
                <a:lnTo>
                  <a:pt x="869" y="281"/>
                </a:lnTo>
                <a:lnTo>
                  <a:pt x="866" y="275"/>
                </a:lnTo>
                <a:lnTo>
                  <a:pt x="864" y="270"/>
                </a:lnTo>
                <a:lnTo>
                  <a:pt x="861" y="265"/>
                </a:lnTo>
                <a:lnTo>
                  <a:pt x="858" y="260"/>
                </a:lnTo>
                <a:lnTo>
                  <a:pt x="855" y="255"/>
                </a:lnTo>
                <a:lnTo>
                  <a:pt x="852" y="251"/>
                </a:lnTo>
                <a:lnTo>
                  <a:pt x="849" y="248"/>
                </a:lnTo>
                <a:lnTo>
                  <a:pt x="845" y="247"/>
                </a:lnTo>
                <a:lnTo>
                  <a:pt x="840" y="245"/>
                </a:lnTo>
                <a:lnTo>
                  <a:pt x="836" y="244"/>
                </a:lnTo>
                <a:lnTo>
                  <a:pt x="830" y="242"/>
                </a:lnTo>
                <a:lnTo>
                  <a:pt x="826" y="241"/>
                </a:lnTo>
                <a:lnTo>
                  <a:pt x="819" y="239"/>
                </a:lnTo>
                <a:lnTo>
                  <a:pt x="813" y="239"/>
                </a:lnTo>
                <a:lnTo>
                  <a:pt x="806" y="238"/>
                </a:lnTo>
                <a:lnTo>
                  <a:pt x="799" y="238"/>
                </a:lnTo>
                <a:lnTo>
                  <a:pt x="790" y="236"/>
                </a:lnTo>
                <a:lnTo>
                  <a:pt x="781" y="236"/>
                </a:lnTo>
                <a:lnTo>
                  <a:pt x="773" y="236"/>
                </a:lnTo>
                <a:lnTo>
                  <a:pt x="763" y="236"/>
                </a:lnTo>
                <a:lnTo>
                  <a:pt x="753" y="236"/>
                </a:lnTo>
                <a:lnTo>
                  <a:pt x="743" y="236"/>
                </a:lnTo>
                <a:lnTo>
                  <a:pt x="731" y="236"/>
                </a:lnTo>
                <a:lnTo>
                  <a:pt x="720" y="236"/>
                </a:lnTo>
                <a:lnTo>
                  <a:pt x="708" y="238"/>
                </a:lnTo>
                <a:lnTo>
                  <a:pt x="695" y="238"/>
                </a:lnTo>
                <a:lnTo>
                  <a:pt x="682" y="239"/>
                </a:lnTo>
                <a:lnTo>
                  <a:pt x="669" y="241"/>
                </a:lnTo>
                <a:lnTo>
                  <a:pt x="656" y="242"/>
                </a:lnTo>
                <a:lnTo>
                  <a:pt x="642" y="244"/>
                </a:lnTo>
                <a:lnTo>
                  <a:pt x="627" y="245"/>
                </a:lnTo>
                <a:lnTo>
                  <a:pt x="612" y="247"/>
                </a:lnTo>
                <a:lnTo>
                  <a:pt x="596" y="249"/>
                </a:lnTo>
                <a:lnTo>
                  <a:pt x="580" y="251"/>
                </a:lnTo>
                <a:lnTo>
                  <a:pt x="564" y="254"/>
                </a:lnTo>
                <a:lnTo>
                  <a:pt x="547" y="257"/>
                </a:lnTo>
                <a:lnTo>
                  <a:pt x="530" y="260"/>
                </a:lnTo>
                <a:lnTo>
                  <a:pt x="512" y="262"/>
                </a:lnTo>
                <a:lnTo>
                  <a:pt x="495" y="265"/>
                </a:lnTo>
                <a:lnTo>
                  <a:pt x="458" y="272"/>
                </a:lnTo>
                <a:lnTo>
                  <a:pt x="423" y="278"/>
                </a:lnTo>
                <a:lnTo>
                  <a:pt x="387" y="284"/>
                </a:lnTo>
                <a:lnTo>
                  <a:pt x="352" y="288"/>
                </a:lnTo>
                <a:lnTo>
                  <a:pt x="318" y="294"/>
                </a:lnTo>
                <a:lnTo>
                  <a:pt x="285" y="298"/>
                </a:lnTo>
                <a:lnTo>
                  <a:pt x="252" y="301"/>
                </a:lnTo>
                <a:lnTo>
                  <a:pt x="220" y="306"/>
                </a:lnTo>
                <a:lnTo>
                  <a:pt x="190" y="308"/>
                </a:lnTo>
                <a:lnTo>
                  <a:pt x="160" y="311"/>
                </a:lnTo>
                <a:lnTo>
                  <a:pt x="129" y="313"/>
                </a:lnTo>
                <a:lnTo>
                  <a:pt x="102" y="316"/>
                </a:lnTo>
                <a:lnTo>
                  <a:pt x="75" y="317"/>
                </a:lnTo>
                <a:lnTo>
                  <a:pt x="47" y="317"/>
                </a:lnTo>
                <a:lnTo>
                  <a:pt x="23" y="319"/>
                </a:lnTo>
                <a:lnTo>
                  <a:pt x="0" y="319"/>
                </a:lnTo>
                <a:lnTo>
                  <a:pt x="0" y="248"/>
                </a:lnTo>
                <a:lnTo>
                  <a:pt x="0" y="177"/>
                </a:lnTo>
                <a:lnTo>
                  <a:pt x="44" y="176"/>
                </a:lnTo>
                <a:lnTo>
                  <a:pt x="89" y="176"/>
                </a:lnTo>
                <a:lnTo>
                  <a:pt x="132" y="175"/>
                </a:lnTo>
                <a:lnTo>
                  <a:pt x="175" y="173"/>
                </a:lnTo>
                <a:lnTo>
                  <a:pt x="216" y="172"/>
                </a:lnTo>
                <a:lnTo>
                  <a:pt x="256" y="170"/>
                </a:lnTo>
                <a:lnTo>
                  <a:pt x="293" y="167"/>
                </a:lnTo>
                <a:lnTo>
                  <a:pt x="331" y="164"/>
                </a:lnTo>
                <a:lnTo>
                  <a:pt x="367" y="160"/>
                </a:lnTo>
                <a:lnTo>
                  <a:pt x="401" y="157"/>
                </a:lnTo>
                <a:lnTo>
                  <a:pt x="434" y="153"/>
                </a:lnTo>
                <a:lnTo>
                  <a:pt x="468" y="147"/>
                </a:lnTo>
                <a:lnTo>
                  <a:pt x="498" y="143"/>
                </a:lnTo>
                <a:lnTo>
                  <a:pt x="528" y="137"/>
                </a:lnTo>
                <a:lnTo>
                  <a:pt x="555" y="131"/>
                </a:lnTo>
                <a:lnTo>
                  <a:pt x="583" y="124"/>
                </a:lnTo>
                <a:lnTo>
                  <a:pt x="606" y="121"/>
                </a:lnTo>
                <a:lnTo>
                  <a:pt x="627" y="117"/>
                </a:lnTo>
                <a:lnTo>
                  <a:pt x="649" y="113"/>
                </a:lnTo>
                <a:lnTo>
                  <a:pt x="669" y="108"/>
                </a:lnTo>
                <a:lnTo>
                  <a:pt x="688" y="103"/>
                </a:lnTo>
                <a:lnTo>
                  <a:pt x="705" y="98"/>
                </a:lnTo>
                <a:lnTo>
                  <a:pt x="722" y="93"/>
                </a:lnTo>
                <a:lnTo>
                  <a:pt x="738" y="87"/>
                </a:lnTo>
                <a:lnTo>
                  <a:pt x="753" y="81"/>
                </a:lnTo>
                <a:lnTo>
                  <a:pt x="766" y="74"/>
                </a:lnTo>
                <a:lnTo>
                  <a:pt x="777" y="68"/>
                </a:lnTo>
                <a:lnTo>
                  <a:pt x="783" y="65"/>
                </a:lnTo>
                <a:lnTo>
                  <a:pt x="787" y="62"/>
                </a:lnTo>
                <a:lnTo>
                  <a:pt x="792" y="58"/>
                </a:lnTo>
                <a:lnTo>
                  <a:pt x="796" y="55"/>
                </a:lnTo>
                <a:lnTo>
                  <a:pt x="800" y="52"/>
                </a:lnTo>
                <a:lnTo>
                  <a:pt x="803" y="49"/>
                </a:lnTo>
                <a:lnTo>
                  <a:pt x="806" y="45"/>
                </a:lnTo>
                <a:lnTo>
                  <a:pt x="809" y="42"/>
                </a:lnTo>
                <a:lnTo>
                  <a:pt x="812" y="39"/>
                </a:lnTo>
                <a:lnTo>
                  <a:pt x="813" y="36"/>
                </a:lnTo>
                <a:lnTo>
                  <a:pt x="816" y="32"/>
                </a:lnTo>
                <a:lnTo>
                  <a:pt x="820" y="29"/>
                </a:lnTo>
                <a:lnTo>
                  <a:pt x="825" y="26"/>
                </a:lnTo>
                <a:lnTo>
                  <a:pt x="829" y="22"/>
                </a:lnTo>
                <a:lnTo>
                  <a:pt x="839" y="16"/>
                </a:lnTo>
                <a:lnTo>
                  <a:pt x="851" y="12"/>
                </a:lnTo>
                <a:lnTo>
                  <a:pt x="862" y="6"/>
                </a:lnTo>
                <a:lnTo>
                  <a:pt x="875" y="3"/>
                </a:lnTo>
                <a:lnTo>
                  <a:pt x="888" y="2"/>
                </a:lnTo>
                <a:lnTo>
                  <a:pt x="895" y="0"/>
                </a:lnTo>
                <a:lnTo>
                  <a:pt x="902" y="0"/>
                </a:lnTo>
                <a:lnTo>
                  <a:pt x="905" y="0"/>
                </a:lnTo>
                <a:lnTo>
                  <a:pt x="910" y="2"/>
                </a:lnTo>
                <a:lnTo>
                  <a:pt x="915" y="3"/>
                </a:lnTo>
                <a:lnTo>
                  <a:pt x="921" y="6"/>
                </a:lnTo>
                <a:lnTo>
                  <a:pt x="928" y="10"/>
                </a:lnTo>
                <a:lnTo>
                  <a:pt x="937" y="15"/>
                </a:lnTo>
                <a:lnTo>
                  <a:pt x="946" y="19"/>
                </a:lnTo>
                <a:lnTo>
                  <a:pt x="954" y="25"/>
                </a:lnTo>
                <a:lnTo>
                  <a:pt x="966" y="31"/>
                </a:lnTo>
                <a:lnTo>
                  <a:pt x="976" y="36"/>
                </a:lnTo>
                <a:lnTo>
                  <a:pt x="989" y="44"/>
                </a:lnTo>
                <a:lnTo>
                  <a:pt x="1002" y="52"/>
                </a:lnTo>
                <a:lnTo>
                  <a:pt x="1015" y="61"/>
                </a:lnTo>
                <a:lnTo>
                  <a:pt x="1029" y="69"/>
                </a:lnTo>
                <a:lnTo>
                  <a:pt x="1045" y="78"/>
                </a:lnTo>
                <a:lnTo>
                  <a:pt x="1061" y="88"/>
                </a:lnTo>
                <a:lnTo>
                  <a:pt x="1077" y="98"/>
                </a:lnTo>
                <a:lnTo>
                  <a:pt x="1091" y="108"/>
                </a:lnTo>
                <a:lnTo>
                  <a:pt x="1105" y="118"/>
                </a:lnTo>
                <a:lnTo>
                  <a:pt x="1117" y="129"/>
                </a:lnTo>
                <a:lnTo>
                  <a:pt x="1128" y="137"/>
                </a:lnTo>
                <a:lnTo>
                  <a:pt x="1140" y="147"/>
                </a:lnTo>
                <a:lnTo>
                  <a:pt x="1149" y="156"/>
                </a:lnTo>
                <a:lnTo>
                  <a:pt x="1157" y="164"/>
                </a:lnTo>
                <a:lnTo>
                  <a:pt x="1166" y="172"/>
                </a:lnTo>
                <a:lnTo>
                  <a:pt x="1173" y="179"/>
                </a:lnTo>
                <a:lnTo>
                  <a:pt x="1179" y="186"/>
                </a:lnTo>
                <a:lnTo>
                  <a:pt x="1185" y="193"/>
                </a:lnTo>
                <a:lnTo>
                  <a:pt x="1190" y="199"/>
                </a:lnTo>
                <a:lnTo>
                  <a:pt x="1195" y="203"/>
                </a:lnTo>
                <a:lnTo>
                  <a:pt x="1199" y="208"/>
                </a:lnTo>
                <a:lnTo>
                  <a:pt x="1202" y="212"/>
                </a:lnTo>
                <a:lnTo>
                  <a:pt x="1202" y="219"/>
                </a:lnTo>
                <a:lnTo>
                  <a:pt x="1200" y="225"/>
                </a:lnTo>
                <a:lnTo>
                  <a:pt x="1199" y="238"/>
                </a:lnTo>
                <a:lnTo>
                  <a:pt x="1196" y="251"/>
                </a:lnTo>
                <a:lnTo>
                  <a:pt x="1190" y="262"/>
                </a:lnTo>
                <a:lnTo>
                  <a:pt x="1186" y="274"/>
                </a:lnTo>
                <a:lnTo>
                  <a:pt x="1180" y="284"/>
                </a:lnTo>
                <a:lnTo>
                  <a:pt x="1173" y="293"/>
                </a:lnTo>
                <a:lnTo>
                  <a:pt x="1170" y="297"/>
                </a:lnTo>
                <a:lnTo>
                  <a:pt x="1167" y="301"/>
                </a:lnTo>
                <a:lnTo>
                  <a:pt x="1163" y="303"/>
                </a:lnTo>
                <a:lnTo>
                  <a:pt x="1160" y="306"/>
                </a:lnTo>
                <a:lnTo>
                  <a:pt x="1157" y="308"/>
                </a:lnTo>
                <a:lnTo>
                  <a:pt x="1154" y="311"/>
                </a:lnTo>
                <a:lnTo>
                  <a:pt x="1151" y="316"/>
                </a:lnTo>
                <a:lnTo>
                  <a:pt x="1149" y="320"/>
                </a:lnTo>
                <a:lnTo>
                  <a:pt x="1146" y="324"/>
                </a:lnTo>
                <a:lnTo>
                  <a:pt x="1143" y="330"/>
                </a:lnTo>
                <a:lnTo>
                  <a:pt x="1140" y="336"/>
                </a:lnTo>
                <a:lnTo>
                  <a:pt x="1138" y="343"/>
                </a:lnTo>
                <a:lnTo>
                  <a:pt x="1136" y="350"/>
                </a:lnTo>
                <a:lnTo>
                  <a:pt x="1133" y="357"/>
                </a:lnTo>
                <a:lnTo>
                  <a:pt x="1131" y="365"/>
                </a:lnTo>
                <a:lnTo>
                  <a:pt x="1128" y="373"/>
                </a:lnTo>
                <a:lnTo>
                  <a:pt x="1127" y="382"/>
                </a:lnTo>
                <a:lnTo>
                  <a:pt x="1124" y="392"/>
                </a:lnTo>
                <a:lnTo>
                  <a:pt x="1123" y="401"/>
                </a:lnTo>
                <a:lnTo>
                  <a:pt x="1121" y="411"/>
                </a:lnTo>
                <a:lnTo>
                  <a:pt x="1118" y="422"/>
                </a:lnTo>
                <a:lnTo>
                  <a:pt x="1117" y="434"/>
                </a:lnTo>
                <a:lnTo>
                  <a:pt x="1115" y="445"/>
                </a:lnTo>
                <a:lnTo>
                  <a:pt x="1113" y="457"/>
                </a:lnTo>
                <a:lnTo>
                  <a:pt x="1111" y="470"/>
                </a:lnTo>
                <a:lnTo>
                  <a:pt x="1110" y="483"/>
                </a:lnTo>
                <a:lnTo>
                  <a:pt x="1108" y="496"/>
                </a:lnTo>
                <a:lnTo>
                  <a:pt x="1105" y="510"/>
                </a:lnTo>
                <a:lnTo>
                  <a:pt x="1104" y="524"/>
                </a:lnTo>
                <a:lnTo>
                  <a:pt x="1102" y="539"/>
                </a:lnTo>
                <a:lnTo>
                  <a:pt x="1101" y="553"/>
                </a:lnTo>
                <a:lnTo>
                  <a:pt x="1100" y="569"/>
                </a:lnTo>
                <a:lnTo>
                  <a:pt x="1098" y="585"/>
                </a:lnTo>
                <a:lnTo>
                  <a:pt x="1097" y="602"/>
                </a:lnTo>
                <a:lnTo>
                  <a:pt x="1094" y="621"/>
                </a:lnTo>
                <a:lnTo>
                  <a:pt x="1092" y="641"/>
                </a:lnTo>
                <a:lnTo>
                  <a:pt x="1091" y="664"/>
                </a:lnTo>
                <a:lnTo>
                  <a:pt x="1091" y="687"/>
                </a:lnTo>
                <a:lnTo>
                  <a:pt x="1090" y="713"/>
                </a:lnTo>
                <a:lnTo>
                  <a:pt x="1088" y="740"/>
                </a:lnTo>
                <a:lnTo>
                  <a:pt x="1087" y="771"/>
                </a:lnTo>
                <a:lnTo>
                  <a:pt x="1087" y="801"/>
                </a:lnTo>
                <a:lnTo>
                  <a:pt x="1085" y="834"/>
                </a:lnTo>
                <a:lnTo>
                  <a:pt x="1085" y="868"/>
                </a:lnTo>
                <a:lnTo>
                  <a:pt x="1084" y="904"/>
                </a:lnTo>
                <a:lnTo>
                  <a:pt x="1084" y="942"/>
                </a:lnTo>
                <a:lnTo>
                  <a:pt x="1084" y="981"/>
                </a:lnTo>
                <a:lnTo>
                  <a:pt x="1084" y="1023"/>
                </a:lnTo>
                <a:lnTo>
                  <a:pt x="1084" y="1066"/>
                </a:lnTo>
                <a:lnTo>
                  <a:pt x="1084" y="1110"/>
                </a:lnTo>
                <a:lnTo>
                  <a:pt x="1084" y="1156"/>
                </a:lnTo>
                <a:lnTo>
                  <a:pt x="1084" y="1205"/>
                </a:lnTo>
                <a:lnTo>
                  <a:pt x="1084" y="1254"/>
                </a:lnTo>
                <a:lnTo>
                  <a:pt x="1084" y="1306"/>
                </a:lnTo>
                <a:lnTo>
                  <a:pt x="1084" y="1361"/>
                </a:lnTo>
                <a:lnTo>
                  <a:pt x="1085" y="1416"/>
                </a:lnTo>
                <a:lnTo>
                  <a:pt x="1085" y="1473"/>
                </a:lnTo>
                <a:lnTo>
                  <a:pt x="1087" y="1532"/>
                </a:lnTo>
                <a:lnTo>
                  <a:pt x="1087" y="1593"/>
                </a:lnTo>
                <a:lnTo>
                  <a:pt x="1088" y="1656"/>
                </a:lnTo>
                <a:lnTo>
                  <a:pt x="1090" y="1719"/>
                </a:lnTo>
                <a:lnTo>
                  <a:pt x="1091" y="1786"/>
                </a:lnTo>
                <a:lnTo>
                  <a:pt x="1091" y="1855"/>
                </a:lnTo>
                <a:lnTo>
                  <a:pt x="1092" y="1924"/>
                </a:lnTo>
                <a:lnTo>
                  <a:pt x="1094" y="1996"/>
                </a:lnTo>
                <a:lnTo>
                  <a:pt x="1097" y="2071"/>
                </a:lnTo>
                <a:lnTo>
                  <a:pt x="1095" y="2144"/>
                </a:lnTo>
                <a:lnTo>
                  <a:pt x="1095" y="2215"/>
                </a:lnTo>
                <a:lnTo>
                  <a:pt x="1095" y="2285"/>
                </a:lnTo>
                <a:lnTo>
                  <a:pt x="1094" y="2353"/>
                </a:lnTo>
                <a:lnTo>
                  <a:pt x="1094" y="2419"/>
                </a:lnTo>
                <a:lnTo>
                  <a:pt x="1092" y="2482"/>
                </a:lnTo>
                <a:lnTo>
                  <a:pt x="1091" y="2544"/>
                </a:lnTo>
                <a:lnTo>
                  <a:pt x="1090" y="2603"/>
                </a:lnTo>
                <a:lnTo>
                  <a:pt x="1088" y="2661"/>
                </a:lnTo>
                <a:lnTo>
                  <a:pt x="1085" y="2717"/>
                </a:lnTo>
                <a:lnTo>
                  <a:pt x="1084" y="2770"/>
                </a:lnTo>
                <a:lnTo>
                  <a:pt x="1081" y="2822"/>
                </a:lnTo>
                <a:lnTo>
                  <a:pt x="1078" y="2872"/>
                </a:lnTo>
                <a:lnTo>
                  <a:pt x="1075" y="2920"/>
                </a:lnTo>
                <a:lnTo>
                  <a:pt x="1072" y="2966"/>
                </a:lnTo>
                <a:lnTo>
                  <a:pt x="1069" y="3009"/>
                </a:lnTo>
                <a:lnTo>
                  <a:pt x="1065" y="3051"/>
                </a:lnTo>
                <a:lnTo>
                  <a:pt x="1062" y="3091"/>
                </a:lnTo>
                <a:lnTo>
                  <a:pt x="1058" y="3129"/>
                </a:lnTo>
                <a:lnTo>
                  <a:pt x="1054" y="3163"/>
                </a:lnTo>
                <a:lnTo>
                  <a:pt x="1049" y="3198"/>
                </a:lnTo>
                <a:lnTo>
                  <a:pt x="1045" y="3229"/>
                </a:lnTo>
                <a:lnTo>
                  <a:pt x="1041" y="3258"/>
                </a:lnTo>
                <a:lnTo>
                  <a:pt x="1036" y="3286"/>
                </a:lnTo>
                <a:lnTo>
                  <a:pt x="1030" y="3312"/>
                </a:lnTo>
                <a:lnTo>
                  <a:pt x="1025" y="3335"/>
                </a:lnTo>
                <a:lnTo>
                  <a:pt x="1020" y="3356"/>
                </a:lnTo>
                <a:lnTo>
                  <a:pt x="1015" y="3375"/>
                </a:lnTo>
                <a:lnTo>
                  <a:pt x="1009" y="3392"/>
                </a:lnTo>
                <a:lnTo>
                  <a:pt x="1002" y="3408"/>
                </a:lnTo>
                <a:lnTo>
                  <a:pt x="996" y="3421"/>
                </a:lnTo>
                <a:lnTo>
                  <a:pt x="990" y="3432"/>
                </a:lnTo>
                <a:lnTo>
                  <a:pt x="977" y="3448"/>
                </a:lnTo>
                <a:lnTo>
                  <a:pt x="964" y="3464"/>
                </a:lnTo>
                <a:lnTo>
                  <a:pt x="951" y="3479"/>
                </a:lnTo>
                <a:lnTo>
                  <a:pt x="940" y="3492"/>
                </a:lnTo>
                <a:lnTo>
                  <a:pt x="928" y="3504"/>
                </a:lnTo>
                <a:lnTo>
                  <a:pt x="917" y="3516"/>
                </a:lnTo>
                <a:lnTo>
                  <a:pt x="905" y="3526"/>
                </a:lnTo>
                <a:lnTo>
                  <a:pt x="895" y="3536"/>
                </a:lnTo>
                <a:lnTo>
                  <a:pt x="884" y="3545"/>
                </a:lnTo>
                <a:lnTo>
                  <a:pt x="874" y="3552"/>
                </a:lnTo>
                <a:lnTo>
                  <a:pt x="864" y="3559"/>
                </a:lnTo>
                <a:lnTo>
                  <a:pt x="853" y="3563"/>
                </a:lnTo>
                <a:lnTo>
                  <a:pt x="843" y="3568"/>
                </a:lnTo>
                <a:lnTo>
                  <a:pt x="833" y="3571"/>
                </a:lnTo>
                <a:lnTo>
                  <a:pt x="823" y="3574"/>
                </a:lnTo>
                <a:lnTo>
                  <a:pt x="813" y="3574"/>
                </a:lnTo>
                <a:lnTo>
                  <a:pt x="803" y="3574"/>
                </a:lnTo>
                <a:lnTo>
                  <a:pt x="794" y="3572"/>
                </a:lnTo>
                <a:lnTo>
                  <a:pt x="787" y="3569"/>
                </a:lnTo>
                <a:lnTo>
                  <a:pt x="780" y="3566"/>
                </a:lnTo>
                <a:lnTo>
                  <a:pt x="773" y="3562"/>
                </a:lnTo>
                <a:lnTo>
                  <a:pt x="767" y="3558"/>
                </a:lnTo>
                <a:lnTo>
                  <a:pt x="763" y="3552"/>
                </a:lnTo>
                <a:lnTo>
                  <a:pt x="757" y="3545"/>
                </a:lnTo>
                <a:lnTo>
                  <a:pt x="754" y="3538"/>
                </a:lnTo>
                <a:lnTo>
                  <a:pt x="750" y="3528"/>
                </a:lnTo>
                <a:lnTo>
                  <a:pt x="748" y="3517"/>
                </a:lnTo>
                <a:lnTo>
                  <a:pt x="745" y="3506"/>
                </a:lnTo>
                <a:lnTo>
                  <a:pt x="744" y="3494"/>
                </a:lnTo>
                <a:lnTo>
                  <a:pt x="743" y="3480"/>
                </a:lnTo>
                <a:lnTo>
                  <a:pt x="743" y="3466"/>
                </a:lnTo>
                <a:lnTo>
                  <a:pt x="743" y="3450"/>
                </a:lnTo>
                <a:lnTo>
                  <a:pt x="741" y="3434"/>
                </a:lnTo>
                <a:lnTo>
                  <a:pt x="740" y="3417"/>
                </a:lnTo>
                <a:lnTo>
                  <a:pt x="737" y="3401"/>
                </a:lnTo>
                <a:lnTo>
                  <a:pt x="731" y="3384"/>
                </a:lnTo>
                <a:lnTo>
                  <a:pt x="725" y="3368"/>
                </a:lnTo>
                <a:lnTo>
                  <a:pt x="718" y="3350"/>
                </a:lnTo>
                <a:lnTo>
                  <a:pt x="709" y="3335"/>
                </a:lnTo>
                <a:lnTo>
                  <a:pt x="705" y="3326"/>
                </a:lnTo>
                <a:lnTo>
                  <a:pt x="699" y="3317"/>
                </a:lnTo>
                <a:lnTo>
                  <a:pt x="694" y="3309"/>
                </a:lnTo>
                <a:lnTo>
                  <a:pt x="688" y="3301"/>
                </a:lnTo>
                <a:lnTo>
                  <a:pt x="682" y="3293"/>
                </a:lnTo>
                <a:lnTo>
                  <a:pt x="675" y="3284"/>
                </a:lnTo>
                <a:lnTo>
                  <a:pt x="668" y="3276"/>
                </a:lnTo>
                <a:lnTo>
                  <a:pt x="661" y="3268"/>
                </a:lnTo>
                <a:lnTo>
                  <a:pt x="653" y="3260"/>
                </a:lnTo>
                <a:lnTo>
                  <a:pt x="645" y="3251"/>
                </a:lnTo>
                <a:lnTo>
                  <a:pt x="636" y="3242"/>
                </a:lnTo>
                <a:lnTo>
                  <a:pt x="627" y="3234"/>
                </a:lnTo>
                <a:lnTo>
                  <a:pt x="619" y="3227"/>
                </a:lnTo>
                <a:lnTo>
                  <a:pt x="609" y="3218"/>
                </a:lnTo>
                <a:lnTo>
                  <a:pt x="599" y="3209"/>
                </a:lnTo>
                <a:lnTo>
                  <a:pt x="587" y="3201"/>
                </a:lnTo>
                <a:lnTo>
                  <a:pt x="577" y="3192"/>
                </a:lnTo>
                <a:lnTo>
                  <a:pt x="566" y="31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74"/>
          <p:cNvSpPr/>
          <p:nvPr/>
        </p:nvSpPr>
        <p:spPr>
          <a:xfrm>
            <a:off x="5956200" y="3521160"/>
            <a:ext cx="346320" cy="118800"/>
          </a:xfrm>
          <a:custGeom>
            <a:avLst/>
            <a:gdLst/>
            <a:ahLst/>
            <a:rect l="l" t="t" r="r" b="b"/>
            <a:pathLst>
              <a:path w="655" h="224">
                <a:moveTo>
                  <a:pt x="0" y="118"/>
                </a:moveTo>
                <a:lnTo>
                  <a:pt x="18" y="114"/>
                </a:lnTo>
                <a:lnTo>
                  <a:pt x="35" y="109"/>
                </a:lnTo>
                <a:lnTo>
                  <a:pt x="54" y="105"/>
                </a:lnTo>
                <a:lnTo>
                  <a:pt x="72" y="101"/>
                </a:lnTo>
                <a:lnTo>
                  <a:pt x="92" y="96"/>
                </a:lnTo>
                <a:lnTo>
                  <a:pt x="113" y="91"/>
                </a:lnTo>
                <a:lnTo>
                  <a:pt x="134" y="85"/>
                </a:lnTo>
                <a:lnTo>
                  <a:pt x="156" y="79"/>
                </a:lnTo>
                <a:lnTo>
                  <a:pt x="177" y="73"/>
                </a:lnTo>
                <a:lnTo>
                  <a:pt x="199" y="68"/>
                </a:lnTo>
                <a:lnTo>
                  <a:pt x="245" y="55"/>
                </a:lnTo>
                <a:lnTo>
                  <a:pt x="290" y="42"/>
                </a:lnTo>
                <a:lnTo>
                  <a:pt x="337" y="29"/>
                </a:lnTo>
                <a:lnTo>
                  <a:pt x="359" y="23"/>
                </a:lnTo>
                <a:lnTo>
                  <a:pt x="380" y="17"/>
                </a:lnTo>
                <a:lnTo>
                  <a:pt x="400" y="13"/>
                </a:lnTo>
                <a:lnTo>
                  <a:pt x="421" y="9"/>
                </a:lnTo>
                <a:lnTo>
                  <a:pt x="438" y="6"/>
                </a:lnTo>
                <a:lnTo>
                  <a:pt x="455" y="3"/>
                </a:lnTo>
                <a:lnTo>
                  <a:pt x="471" y="1"/>
                </a:lnTo>
                <a:lnTo>
                  <a:pt x="487" y="0"/>
                </a:lnTo>
                <a:lnTo>
                  <a:pt x="501" y="0"/>
                </a:lnTo>
                <a:lnTo>
                  <a:pt x="516" y="0"/>
                </a:lnTo>
                <a:lnTo>
                  <a:pt x="529" y="0"/>
                </a:lnTo>
                <a:lnTo>
                  <a:pt x="540" y="1"/>
                </a:lnTo>
                <a:lnTo>
                  <a:pt x="552" y="3"/>
                </a:lnTo>
                <a:lnTo>
                  <a:pt x="563" y="6"/>
                </a:lnTo>
                <a:lnTo>
                  <a:pt x="575" y="9"/>
                </a:lnTo>
                <a:lnTo>
                  <a:pt x="585" y="11"/>
                </a:lnTo>
                <a:lnTo>
                  <a:pt x="593" y="19"/>
                </a:lnTo>
                <a:lnTo>
                  <a:pt x="602" y="24"/>
                </a:lnTo>
                <a:lnTo>
                  <a:pt x="611" y="32"/>
                </a:lnTo>
                <a:lnTo>
                  <a:pt x="618" y="37"/>
                </a:lnTo>
                <a:lnTo>
                  <a:pt x="624" y="45"/>
                </a:lnTo>
                <a:lnTo>
                  <a:pt x="629" y="50"/>
                </a:lnTo>
                <a:lnTo>
                  <a:pt x="635" y="56"/>
                </a:lnTo>
                <a:lnTo>
                  <a:pt x="639" y="62"/>
                </a:lnTo>
                <a:lnTo>
                  <a:pt x="644" y="68"/>
                </a:lnTo>
                <a:lnTo>
                  <a:pt x="647" y="73"/>
                </a:lnTo>
                <a:lnTo>
                  <a:pt x="650" y="79"/>
                </a:lnTo>
                <a:lnTo>
                  <a:pt x="651" y="83"/>
                </a:lnTo>
                <a:lnTo>
                  <a:pt x="654" y="88"/>
                </a:lnTo>
                <a:lnTo>
                  <a:pt x="654" y="92"/>
                </a:lnTo>
                <a:lnTo>
                  <a:pt x="655" y="96"/>
                </a:lnTo>
                <a:lnTo>
                  <a:pt x="655" y="101"/>
                </a:lnTo>
                <a:lnTo>
                  <a:pt x="655" y="104"/>
                </a:lnTo>
                <a:lnTo>
                  <a:pt x="652" y="108"/>
                </a:lnTo>
                <a:lnTo>
                  <a:pt x="650" y="111"/>
                </a:lnTo>
                <a:lnTo>
                  <a:pt x="645" y="115"/>
                </a:lnTo>
                <a:lnTo>
                  <a:pt x="639" y="121"/>
                </a:lnTo>
                <a:lnTo>
                  <a:pt x="632" y="125"/>
                </a:lnTo>
                <a:lnTo>
                  <a:pt x="624" y="129"/>
                </a:lnTo>
                <a:lnTo>
                  <a:pt x="618" y="132"/>
                </a:lnTo>
                <a:lnTo>
                  <a:pt x="614" y="135"/>
                </a:lnTo>
                <a:lnTo>
                  <a:pt x="608" y="138"/>
                </a:lnTo>
                <a:lnTo>
                  <a:pt x="602" y="140"/>
                </a:lnTo>
                <a:lnTo>
                  <a:pt x="595" y="142"/>
                </a:lnTo>
                <a:lnTo>
                  <a:pt x="589" y="145"/>
                </a:lnTo>
                <a:lnTo>
                  <a:pt x="582" y="147"/>
                </a:lnTo>
                <a:lnTo>
                  <a:pt x="575" y="150"/>
                </a:lnTo>
                <a:lnTo>
                  <a:pt x="566" y="153"/>
                </a:lnTo>
                <a:lnTo>
                  <a:pt x="559" y="154"/>
                </a:lnTo>
                <a:lnTo>
                  <a:pt x="550" y="157"/>
                </a:lnTo>
                <a:lnTo>
                  <a:pt x="540" y="158"/>
                </a:lnTo>
                <a:lnTo>
                  <a:pt x="532" y="161"/>
                </a:lnTo>
                <a:lnTo>
                  <a:pt x="521" y="163"/>
                </a:lnTo>
                <a:lnTo>
                  <a:pt x="511" y="165"/>
                </a:lnTo>
                <a:lnTo>
                  <a:pt x="501" y="167"/>
                </a:lnTo>
                <a:lnTo>
                  <a:pt x="490" y="168"/>
                </a:lnTo>
                <a:lnTo>
                  <a:pt x="478" y="171"/>
                </a:lnTo>
                <a:lnTo>
                  <a:pt x="455" y="177"/>
                </a:lnTo>
                <a:lnTo>
                  <a:pt x="431" y="183"/>
                </a:lnTo>
                <a:lnTo>
                  <a:pt x="405" y="188"/>
                </a:lnTo>
                <a:lnTo>
                  <a:pt x="379" y="194"/>
                </a:lnTo>
                <a:lnTo>
                  <a:pt x="352" y="199"/>
                </a:lnTo>
                <a:lnTo>
                  <a:pt x="324" y="203"/>
                </a:lnTo>
                <a:lnTo>
                  <a:pt x="295" y="207"/>
                </a:lnTo>
                <a:lnTo>
                  <a:pt x="267" y="210"/>
                </a:lnTo>
                <a:lnTo>
                  <a:pt x="236" y="214"/>
                </a:lnTo>
                <a:lnTo>
                  <a:pt x="205" y="216"/>
                </a:lnTo>
                <a:lnTo>
                  <a:pt x="173" y="219"/>
                </a:lnTo>
                <a:lnTo>
                  <a:pt x="140" y="220"/>
                </a:lnTo>
                <a:lnTo>
                  <a:pt x="107" y="222"/>
                </a:lnTo>
                <a:lnTo>
                  <a:pt x="72" y="223"/>
                </a:lnTo>
                <a:lnTo>
                  <a:pt x="36" y="223"/>
                </a:lnTo>
                <a:lnTo>
                  <a:pt x="0" y="224"/>
                </a:lnTo>
                <a:lnTo>
                  <a:pt x="0" y="170"/>
                </a:lnTo>
                <a:lnTo>
                  <a:pt x="0" y="11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75"/>
          <p:cNvSpPr/>
          <p:nvPr/>
        </p:nvSpPr>
        <p:spPr>
          <a:xfrm>
            <a:off x="5956200" y="3789360"/>
            <a:ext cx="346320" cy="112680"/>
          </a:xfrm>
          <a:custGeom>
            <a:avLst/>
            <a:gdLst/>
            <a:ahLst/>
            <a:rect l="l" t="t" r="r" b="b"/>
            <a:pathLst>
              <a:path w="655" h="213">
                <a:moveTo>
                  <a:pt x="444" y="194"/>
                </a:moveTo>
                <a:lnTo>
                  <a:pt x="416" y="197"/>
                </a:lnTo>
                <a:lnTo>
                  <a:pt x="390" y="200"/>
                </a:lnTo>
                <a:lnTo>
                  <a:pt x="363" y="203"/>
                </a:lnTo>
                <a:lnTo>
                  <a:pt x="337" y="204"/>
                </a:lnTo>
                <a:lnTo>
                  <a:pt x="282" y="207"/>
                </a:lnTo>
                <a:lnTo>
                  <a:pt x="228" y="210"/>
                </a:lnTo>
                <a:lnTo>
                  <a:pt x="173" y="211"/>
                </a:lnTo>
                <a:lnTo>
                  <a:pt x="117" y="211"/>
                </a:lnTo>
                <a:lnTo>
                  <a:pt x="88" y="211"/>
                </a:lnTo>
                <a:lnTo>
                  <a:pt x="59" y="211"/>
                </a:lnTo>
                <a:lnTo>
                  <a:pt x="31" y="213"/>
                </a:lnTo>
                <a:lnTo>
                  <a:pt x="0" y="213"/>
                </a:lnTo>
                <a:lnTo>
                  <a:pt x="0" y="149"/>
                </a:lnTo>
                <a:lnTo>
                  <a:pt x="0" y="89"/>
                </a:lnTo>
                <a:lnTo>
                  <a:pt x="20" y="85"/>
                </a:lnTo>
                <a:lnTo>
                  <a:pt x="39" y="82"/>
                </a:lnTo>
                <a:lnTo>
                  <a:pt x="58" y="79"/>
                </a:lnTo>
                <a:lnTo>
                  <a:pt x="77" y="75"/>
                </a:lnTo>
                <a:lnTo>
                  <a:pt x="94" y="72"/>
                </a:lnTo>
                <a:lnTo>
                  <a:pt x="111" y="69"/>
                </a:lnTo>
                <a:lnTo>
                  <a:pt x="128" y="64"/>
                </a:lnTo>
                <a:lnTo>
                  <a:pt x="144" y="62"/>
                </a:lnTo>
                <a:lnTo>
                  <a:pt x="160" y="59"/>
                </a:lnTo>
                <a:lnTo>
                  <a:pt x="174" y="54"/>
                </a:lnTo>
                <a:lnTo>
                  <a:pt x="189" y="51"/>
                </a:lnTo>
                <a:lnTo>
                  <a:pt x="202" y="49"/>
                </a:lnTo>
                <a:lnTo>
                  <a:pt x="215" y="46"/>
                </a:lnTo>
                <a:lnTo>
                  <a:pt x="228" y="41"/>
                </a:lnTo>
                <a:lnTo>
                  <a:pt x="238" y="39"/>
                </a:lnTo>
                <a:lnTo>
                  <a:pt x="249" y="36"/>
                </a:lnTo>
                <a:lnTo>
                  <a:pt x="259" y="31"/>
                </a:lnTo>
                <a:lnTo>
                  <a:pt x="269" y="28"/>
                </a:lnTo>
                <a:lnTo>
                  <a:pt x="291" y="21"/>
                </a:lnTo>
                <a:lnTo>
                  <a:pt x="314" y="15"/>
                </a:lnTo>
                <a:lnTo>
                  <a:pt x="337" y="11"/>
                </a:lnTo>
                <a:lnTo>
                  <a:pt x="360" y="5"/>
                </a:lnTo>
                <a:lnTo>
                  <a:pt x="383" y="3"/>
                </a:lnTo>
                <a:lnTo>
                  <a:pt x="405" y="1"/>
                </a:lnTo>
                <a:lnTo>
                  <a:pt x="415" y="0"/>
                </a:lnTo>
                <a:lnTo>
                  <a:pt x="425" y="0"/>
                </a:lnTo>
                <a:lnTo>
                  <a:pt x="445" y="0"/>
                </a:lnTo>
                <a:lnTo>
                  <a:pt x="465" y="0"/>
                </a:lnTo>
                <a:lnTo>
                  <a:pt x="485" y="1"/>
                </a:lnTo>
                <a:lnTo>
                  <a:pt x="504" y="1"/>
                </a:lnTo>
                <a:lnTo>
                  <a:pt x="524" y="4"/>
                </a:lnTo>
                <a:lnTo>
                  <a:pt x="544" y="7"/>
                </a:lnTo>
                <a:lnTo>
                  <a:pt x="555" y="8"/>
                </a:lnTo>
                <a:lnTo>
                  <a:pt x="565" y="11"/>
                </a:lnTo>
                <a:lnTo>
                  <a:pt x="575" y="14"/>
                </a:lnTo>
                <a:lnTo>
                  <a:pt x="585" y="17"/>
                </a:lnTo>
                <a:lnTo>
                  <a:pt x="593" y="21"/>
                </a:lnTo>
                <a:lnTo>
                  <a:pt x="602" y="24"/>
                </a:lnTo>
                <a:lnTo>
                  <a:pt x="611" y="28"/>
                </a:lnTo>
                <a:lnTo>
                  <a:pt x="618" y="33"/>
                </a:lnTo>
                <a:lnTo>
                  <a:pt x="624" y="39"/>
                </a:lnTo>
                <a:lnTo>
                  <a:pt x="629" y="44"/>
                </a:lnTo>
                <a:lnTo>
                  <a:pt x="635" y="49"/>
                </a:lnTo>
                <a:lnTo>
                  <a:pt x="639" y="54"/>
                </a:lnTo>
                <a:lnTo>
                  <a:pt x="644" y="60"/>
                </a:lnTo>
                <a:lnTo>
                  <a:pt x="647" y="67"/>
                </a:lnTo>
                <a:lnTo>
                  <a:pt x="650" y="73"/>
                </a:lnTo>
                <a:lnTo>
                  <a:pt x="651" y="79"/>
                </a:lnTo>
                <a:lnTo>
                  <a:pt x="654" y="86"/>
                </a:lnTo>
                <a:lnTo>
                  <a:pt x="654" y="92"/>
                </a:lnTo>
                <a:lnTo>
                  <a:pt x="655" y="99"/>
                </a:lnTo>
                <a:lnTo>
                  <a:pt x="655" y="106"/>
                </a:lnTo>
                <a:lnTo>
                  <a:pt x="655" y="109"/>
                </a:lnTo>
                <a:lnTo>
                  <a:pt x="654" y="112"/>
                </a:lnTo>
                <a:lnTo>
                  <a:pt x="654" y="115"/>
                </a:lnTo>
                <a:lnTo>
                  <a:pt x="652" y="119"/>
                </a:lnTo>
                <a:lnTo>
                  <a:pt x="650" y="122"/>
                </a:lnTo>
                <a:lnTo>
                  <a:pt x="648" y="125"/>
                </a:lnTo>
                <a:lnTo>
                  <a:pt x="645" y="128"/>
                </a:lnTo>
                <a:lnTo>
                  <a:pt x="642" y="132"/>
                </a:lnTo>
                <a:lnTo>
                  <a:pt x="638" y="135"/>
                </a:lnTo>
                <a:lnTo>
                  <a:pt x="635" y="138"/>
                </a:lnTo>
                <a:lnTo>
                  <a:pt x="631" y="141"/>
                </a:lnTo>
                <a:lnTo>
                  <a:pt x="625" y="144"/>
                </a:lnTo>
                <a:lnTo>
                  <a:pt x="621" y="148"/>
                </a:lnTo>
                <a:lnTo>
                  <a:pt x="615" y="151"/>
                </a:lnTo>
                <a:lnTo>
                  <a:pt x="608" y="154"/>
                </a:lnTo>
                <a:lnTo>
                  <a:pt x="602" y="157"/>
                </a:lnTo>
                <a:lnTo>
                  <a:pt x="595" y="159"/>
                </a:lnTo>
                <a:lnTo>
                  <a:pt x="588" y="162"/>
                </a:lnTo>
                <a:lnTo>
                  <a:pt x="580" y="165"/>
                </a:lnTo>
                <a:lnTo>
                  <a:pt x="572" y="168"/>
                </a:lnTo>
                <a:lnTo>
                  <a:pt x="563" y="170"/>
                </a:lnTo>
                <a:lnTo>
                  <a:pt x="555" y="172"/>
                </a:lnTo>
                <a:lnTo>
                  <a:pt x="546" y="175"/>
                </a:lnTo>
                <a:lnTo>
                  <a:pt x="536" y="178"/>
                </a:lnTo>
                <a:lnTo>
                  <a:pt x="526" y="180"/>
                </a:lnTo>
                <a:lnTo>
                  <a:pt x="516" y="182"/>
                </a:lnTo>
                <a:lnTo>
                  <a:pt x="504" y="184"/>
                </a:lnTo>
                <a:lnTo>
                  <a:pt x="493" y="187"/>
                </a:lnTo>
                <a:lnTo>
                  <a:pt x="481" y="188"/>
                </a:lnTo>
                <a:lnTo>
                  <a:pt x="468" y="191"/>
                </a:lnTo>
                <a:lnTo>
                  <a:pt x="457" y="193"/>
                </a:lnTo>
                <a:lnTo>
                  <a:pt x="444" y="1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76"/>
          <p:cNvSpPr/>
          <p:nvPr/>
        </p:nvSpPr>
        <p:spPr>
          <a:xfrm>
            <a:off x="5516640" y="4060800"/>
            <a:ext cx="917640" cy="282600"/>
          </a:xfrm>
          <a:custGeom>
            <a:avLst/>
            <a:gdLst/>
            <a:ahLst/>
            <a:rect l="l" t="t" r="r" b="b"/>
            <a:pathLst>
              <a:path w="1733" h="534">
                <a:moveTo>
                  <a:pt x="1733" y="0"/>
                </a:moveTo>
                <a:lnTo>
                  <a:pt x="1733" y="53"/>
                </a:lnTo>
                <a:lnTo>
                  <a:pt x="1733" y="107"/>
                </a:lnTo>
                <a:lnTo>
                  <a:pt x="1680" y="121"/>
                </a:lnTo>
                <a:lnTo>
                  <a:pt x="1625" y="134"/>
                </a:lnTo>
                <a:lnTo>
                  <a:pt x="1570" y="148"/>
                </a:lnTo>
                <a:lnTo>
                  <a:pt x="1514" y="163"/>
                </a:lnTo>
                <a:lnTo>
                  <a:pt x="1458" y="179"/>
                </a:lnTo>
                <a:lnTo>
                  <a:pt x="1400" y="193"/>
                </a:lnTo>
                <a:lnTo>
                  <a:pt x="1343" y="209"/>
                </a:lnTo>
                <a:lnTo>
                  <a:pt x="1284" y="226"/>
                </a:lnTo>
                <a:lnTo>
                  <a:pt x="1225" y="242"/>
                </a:lnTo>
                <a:lnTo>
                  <a:pt x="1164" y="259"/>
                </a:lnTo>
                <a:lnTo>
                  <a:pt x="1104" y="277"/>
                </a:lnTo>
                <a:lnTo>
                  <a:pt x="1043" y="295"/>
                </a:lnTo>
                <a:lnTo>
                  <a:pt x="981" y="314"/>
                </a:lnTo>
                <a:lnTo>
                  <a:pt x="920" y="333"/>
                </a:lnTo>
                <a:lnTo>
                  <a:pt x="858" y="353"/>
                </a:lnTo>
                <a:lnTo>
                  <a:pt x="796" y="373"/>
                </a:lnTo>
                <a:lnTo>
                  <a:pt x="763" y="385"/>
                </a:lnTo>
                <a:lnTo>
                  <a:pt x="731" y="395"/>
                </a:lnTo>
                <a:lnTo>
                  <a:pt x="699" y="406"/>
                </a:lnTo>
                <a:lnTo>
                  <a:pt x="670" y="416"/>
                </a:lnTo>
                <a:lnTo>
                  <a:pt x="642" y="426"/>
                </a:lnTo>
                <a:lnTo>
                  <a:pt x="613" y="435"/>
                </a:lnTo>
                <a:lnTo>
                  <a:pt x="586" y="445"/>
                </a:lnTo>
                <a:lnTo>
                  <a:pt x="560" y="452"/>
                </a:lnTo>
                <a:lnTo>
                  <a:pt x="534" y="461"/>
                </a:lnTo>
                <a:lnTo>
                  <a:pt x="509" y="468"/>
                </a:lnTo>
                <a:lnTo>
                  <a:pt x="486" y="475"/>
                </a:lnTo>
                <a:lnTo>
                  <a:pt x="463" y="482"/>
                </a:lnTo>
                <a:lnTo>
                  <a:pt x="442" y="490"/>
                </a:lnTo>
                <a:lnTo>
                  <a:pt x="421" y="495"/>
                </a:lnTo>
                <a:lnTo>
                  <a:pt x="401" y="501"/>
                </a:lnTo>
                <a:lnTo>
                  <a:pt x="383" y="505"/>
                </a:lnTo>
                <a:lnTo>
                  <a:pt x="364" y="511"/>
                </a:lnTo>
                <a:lnTo>
                  <a:pt x="347" y="516"/>
                </a:lnTo>
                <a:lnTo>
                  <a:pt x="329" y="518"/>
                </a:lnTo>
                <a:lnTo>
                  <a:pt x="315" y="523"/>
                </a:lnTo>
                <a:lnTo>
                  <a:pt x="299" y="526"/>
                </a:lnTo>
                <a:lnTo>
                  <a:pt x="286" y="529"/>
                </a:lnTo>
                <a:lnTo>
                  <a:pt x="273" y="530"/>
                </a:lnTo>
                <a:lnTo>
                  <a:pt x="260" y="531"/>
                </a:lnTo>
                <a:lnTo>
                  <a:pt x="249" y="533"/>
                </a:lnTo>
                <a:lnTo>
                  <a:pt x="239" y="534"/>
                </a:lnTo>
                <a:lnTo>
                  <a:pt x="229" y="534"/>
                </a:lnTo>
                <a:lnTo>
                  <a:pt x="220" y="534"/>
                </a:lnTo>
                <a:lnTo>
                  <a:pt x="213" y="534"/>
                </a:lnTo>
                <a:lnTo>
                  <a:pt x="206" y="534"/>
                </a:lnTo>
                <a:lnTo>
                  <a:pt x="200" y="533"/>
                </a:lnTo>
                <a:lnTo>
                  <a:pt x="194" y="531"/>
                </a:lnTo>
                <a:lnTo>
                  <a:pt x="184" y="531"/>
                </a:lnTo>
                <a:lnTo>
                  <a:pt x="175" y="530"/>
                </a:lnTo>
                <a:lnTo>
                  <a:pt x="165" y="530"/>
                </a:lnTo>
                <a:lnTo>
                  <a:pt x="157" y="529"/>
                </a:lnTo>
                <a:lnTo>
                  <a:pt x="149" y="526"/>
                </a:lnTo>
                <a:lnTo>
                  <a:pt x="141" y="523"/>
                </a:lnTo>
                <a:lnTo>
                  <a:pt x="132" y="520"/>
                </a:lnTo>
                <a:lnTo>
                  <a:pt x="125" y="516"/>
                </a:lnTo>
                <a:lnTo>
                  <a:pt x="118" y="511"/>
                </a:lnTo>
                <a:lnTo>
                  <a:pt x="110" y="507"/>
                </a:lnTo>
                <a:lnTo>
                  <a:pt x="103" y="501"/>
                </a:lnTo>
                <a:lnTo>
                  <a:pt x="96" y="494"/>
                </a:lnTo>
                <a:lnTo>
                  <a:pt x="90" y="487"/>
                </a:lnTo>
                <a:lnTo>
                  <a:pt x="83" y="478"/>
                </a:lnTo>
                <a:lnTo>
                  <a:pt x="77" y="469"/>
                </a:lnTo>
                <a:lnTo>
                  <a:pt x="70" y="461"/>
                </a:lnTo>
                <a:lnTo>
                  <a:pt x="60" y="454"/>
                </a:lnTo>
                <a:lnTo>
                  <a:pt x="51" y="446"/>
                </a:lnTo>
                <a:lnTo>
                  <a:pt x="44" y="441"/>
                </a:lnTo>
                <a:lnTo>
                  <a:pt x="37" y="434"/>
                </a:lnTo>
                <a:lnTo>
                  <a:pt x="30" y="426"/>
                </a:lnTo>
                <a:lnTo>
                  <a:pt x="24" y="419"/>
                </a:lnTo>
                <a:lnTo>
                  <a:pt x="20" y="412"/>
                </a:lnTo>
                <a:lnTo>
                  <a:pt x="14" y="405"/>
                </a:lnTo>
                <a:lnTo>
                  <a:pt x="11" y="398"/>
                </a:lnTo>
                <a:lnTo>
                  <a:pt x="7" y="390"/>
                </a:lnTo>
                <a:lnTo>
                  <a:pt x="5" y="382"/>
                </a:lnTo>
                <a:lnTo>
                  <a:pt x="3" y="373"/>
                </a:lnTo>
                <a:lnTo>
                  <a:pt x="1" y="364"/>
                </a:lnTo>
                <a:lnTo>
                  <a:pt x="0" y="356"/>
                </a:lnTo>
                <a:lnTo>
                  <a:pt x="0" y="346"/>
                </a:lnTo>
                <a:lnTo>
                  <a:pt x="0" y="337"/>
                </a:lnTo>
                <a:lnTo>
                  <a:pt x="0" y="327"/>
                </a:lnTo>
                <a:lnTo>
                  <a:pt x="1" y="318"/>
                </a:lnTo>
                <a:lnTo>
                  <a:pt x="3" y="311"/>
                </a:lnTo>
                <a:lnTo>
                  <a:pt x="5" y="304"/>
                </a:lnTo>
                <a:lnTo>
                  <a:pt x="8" y="297"/>
                </a:lnTo>
                <a:lnTo>
                  <a:pt x="13" y="292"/>
                </a:lnTo>
                <a:lnTo>
                  <a:pt x="18" y="287"/>
                </a:lnTo>
                <a:lnTo>
                  <a:pt x="24" y="284"/>
                </a:lnTo>
                <a:lnTo>
                  <a:pt x="30" y="281"/>
                </a:lnTo>
                <a:lnTo>
                  <a:pt x="37" y="278"/>
                </a:lnTo>
                <a:lnTo>
                  <a:pt x="44" y="278"/>
                </a:lnTo>
                <a:lnTo>
                  <a:pt x="51" y="277"/>
                </a:lnTo>
                <a:lnTo>
                  <a:pt x="60" y="278"/>
                </a:lnTo>
                <a:lnTo>
                  <a:pt x="69" y="279"/>
                </a:lnTo>
                <a:lnTo>
                  <a:pt x="77" y="281"/>
                </a:lnTo>
                <a:lnTo>
                  <a:pt x="87" y="284"/>
                </a:lnTo>
                <a:lnTo>
                  <a:pt x="98" y="287"/>
                </a:lnTo>
                <a:lnTo>
                  <a:pt x="108" y="290"/>
                </a:lnTo>
                <a:lnTo>
                  <a:pt x="118" y="292"/>
                </a:lnTo>
                <a:lnTo>
                  <a:pt x="128" y="294"/>
                </a:lnTo>
                <a:lnTo>
                  <a:pt x="146" y="297"/>
                </a:lnTo>
                <a:lnTo>
                  <a:pt x="165" y="300"/>
                </a:lnTo>
                <a:lnTo>
                  <a:pt x="182" y="301"/>
                </a:lnTo>
                <a:lnTo>
                  <a:pt x="200" y="301"/>
                </a:lnTo>
                <a:lnTo>
                  <a:pt x="208" y="301"/>
                </a:lnTo>
                <a:lnTo>
                  <a:pt x="216" y="301"/>
                </a:lnTo>
                <a:lnTo>
                  <a:pt x="223" y="301"/>
                </a:lnTo>
                <a:lnTo>
                  <a:pt x="230" y="301"/>
                </a:lnTo>
                <a:lnTo>
                  <a:pt x="231" y="301"/>
                </a:lnTo>
                <a:lnTo>
                  <a:pt x="234" y="301"/>
                </a:lnTo>
                <a:lnTo>
                  <a:pt x="237" y="300"/>
                </a:lnTo>
                <a:lnTo>
                  <a:pt x="241" y="300"/>
                </a:lnTo>
                <a:lnTo>
                  <a:pt x="246" y="298"/>
                </a:lnTo>
                <a:lnTo>
                  <a:pt x="250" y="298"/>
                </a:lnTo>
                <a:lnTo>
                  <a:pt x="256" y="297"/>
                </a:lnTo>
                <a:lnTo>
                  <a:pt x="262" y="295"/>
                </a:lnTo>
                <a:lnTo>
                  <a:pt x="269" y="294"/>
                </a:lnTo>
                <a:lnTo>
                  <a:pt x="277" y="291"/>
                </a:lnTo>
                <a:lnTo>
                  <a:pt x="285" y="290"/>
                </a:lnTo>
                <a:lnTo>
                  <a:pt x="293" y="288"/>
                </a:lnTo>
                <a:lnTo>
                  <a:pt x="303" y="285"/>
                </a:lnTo>
                <a:lnTo>
                  <a:pt x="313" y="282"/>
                </a:lnTo>
                <a:lnTo>
                  <a:pt x="324" y="279"/>
                </a:lnTo>
                <a:lnTo>
                  <a:pt x="335" y="278"/>
                </a:lnTo>
                <a:lnTo>
                  <a:pt x="347" y="274"/>
                </a:lnTo>
                <a:lnTo>
                  <a:pt x="360" y="271"/>
                </a:lnTo>
                <a:lnTo>
                  <a:pt x="372" y="268"/>
                </a:lnTo>
                <a:lnTo>
                  <a:pt x="387" y="265"/>
                </a:lnTo>
                <a:lnTo>
                  <a:pt x="401" y="261"/>
                </a:lnTo>
                <a:lnTo>
                  <a:pt x="416" y="258"/>
                </a:lnTo>
                <a:lnTo>
                  <a:pt x="432" y="254"/>
                </a:lnTo>
                <a:lnTo>
                  <a:pt x="449" y="249"/>
                </a:lnTo>
                <a:lnTo>
                  <a:pt x="465" y="245"/>
                </a:lnTo>
                <a:lnTo>
                  <a:pt x="483" y="241"/>
                </a:lnTo>
                <a:lnTo>
                  <a:pt x="501" y="236"/>
                </a:lnTo>
                <a:lnTo>
                  <a:pt x="519" y="232"/>
                </a:lnTo>
                <a:lnTo>
                  <a:pt x="539" y="228"/>
                </a:lnTo>
                <a:lnTo>
                  <a:pt x="558" y="222"/>
                </a:lnTo>
                <a:lnTo>
                  <a:pt x="580" y="218"/>
                </a:lnTo>
                <a:lnTo>
                  <a:pt x="601" y="213"/>
                </a:lnTo>
                <a:lnTo>
                  <a:pt x="640" y="203"/>
                </a:lnTo>
                <a:lnTo>
                  <a:pt x="679" y="193"/>
                </a:lnTo>
                <a:lnTo>
                  <a:pt x="717" y="184"/>
                </a:lnTo>
                <a:lnTo>
                  <a:pt x="753" y="176"/>
                </a:lnTo>
                <a:lnTo>
                  <a:pt x="789" y="167"/>
                </a:lnTo>
                <a:lnTo>
                  <a:pt x="825" y="159"/>
                </a:lnTo>
                <a:lnTo>
                  <a:pt x="859" y="151"/>
                </a:lnTo>
                <a:lnTo>
                  <a:pt x="892" y="144"/>
                </a:lnTo>
                <a:lnTo>
                  <a:pt x="925" y="137"/>
                </a:lnTo>
                <a:lnTo>
                  <a:pt x="957" y="130"/>
                </a:lnTo>
                <a:lnTo>
                  <a:pt x="989" y="123"/>
                </a:lnTo>
                <a:lnTo>
                  <a:pt x="1019" y="115"/>
                </a:lnTo>
                <a:lnTo>
                  <a:pt x="1048" y="110"/>
                </a:lnTo>
                <a:lnTo>
                  <a:pt x="1076" y="102"/>
                </a:lnTo>
                <a:lnTo>
                  <a:pt x="1104" y="95"/>
                </a:lnTo>
                <a:lnTo>
                  <a:pt x="1131" y="89"/>
                </a:lnTo>
                <a:lnTo>
                  <a:pt x="1159" y="85"/>
                </a:lnTo>
                <a:lnTo>
                  <a:pt x="1187" y="81"/>
                </a:lnTo>
                <a:lnTo>
                  <a:pt x="1216" y="76"/>
                </a:lnTo>
                <a:lnTo>
                  <a:pt x="1248" y="72"/>
                </a:lnTo>
                <a:lnTo>
                  <a:pt x="1279" y="68"/>
                </a:lnTo>
                <a:lnTo>
                  <a:pt x="1314" y="62"/>
                </a:lnTo>
                <a:lnTo>
                  <a:pt x="1349" y="58"/>
                </a:lnTo>
                <a:lnTo>
                  <a:pt x="1367" y="55"/>
                </a:lnTo>
                <a:lnTo>
                  <a:pt x="1386" y="52"/>
                </a:lnTo>
                <a:lnTo>
                  <a:pt x="1405" y="49"/>
                </a:lnTo>
                <a:lnTo>
                  <a:pt x="1423" y="46"/>
                </a:lnTo>
                <a:lnTo>
                  <a:pt x="1444" y="43"/>
                </a:lnTo>
                <a:lnTo>
                  <a:pt x="1464" y="39"/>
                </a:lnTo>
                <a:lnTo>
                  <a:pt x="1484" y="36"/>
                </a:lnTo>
                <a:lnTo>
                  <a:pt x="1504" y="33"/>
                </a:lnTo>
                <a:lnTo>
                  <a:pt x="1526" y="30"/>
                </a:lnTo>
                <a:lnTo>
                  <a:pt x="1547" y="28"/>
                </a:lnTo>
                <a:lnTo>
                  <a:pt x="1569" y="23"/>
                </a:lnTo>
                <a:lnTo>
                  <a:pt x="1590" y="20"/>
                </a:lnTo>
                <a:lnTo>
                  <a:pt x="1613" y="17"/>
                </a:lnTo>
                <a:lnTo>
                  <a:pt x="1636" y="13"/>
                </a:lnTo>
                <a:lnTo>
                  <a:pt x="1660" y="10"/>
                </a:lnTo>
                <a:lnTo>
                  <a:pt x="1684" y="7"/>
                </a:lnTo>
                <a:lnTo>
                  <a:pt x="1708" y="3"/>
                </a:lnTo>
                <a:lnTo>
                  <a:pt x="1733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77"/>
          <p:cNvSpPr/>
          <p:nvPr/>
        </p:nvSpPr>
        <p:spPr>
          <a:xfrm>
            <a:off x="5580000" y="4087800"/>
            <a:ext cx="854280" cy="750960"/>
          </a:xfrm>
          <a:custGeom>
            <a:avLst/>
            <a:gdLst/>
            <a:ahLst/>
            <a:rect l="l" t="t" r="r" b="b"/>
            <a:pathLst>
              <a:path w="1612" h="1418">
                <a:moveTo>
                  <a:pt x="1311" y="36"/>
                </a:moveTo>
                <a:lnTo>
                  <a:pt x="1462" y="18"/>
                </a:lnTo>
                <a:lnTo>
                  <a:pt x="1612" y="0"/>
                </a:lnTo>
                <a:lnTo>
                  <a:pt x="1589" y="35"/>
                </a:lnTo>
                <a:lnTo>
                  <a:pt x="1567" y="70"/>
                </a:lnTo>
                <a:lnTo>
                  <a:pt x="1544" y="103"/>
                </a:lnTo>
                <a:lnTo>
                  <a:pt x="1523" y="136"/>
                </a:lnTo>
                <a:lnTo>
                  <a:pt x="1501" y="167"/>
                </a:lnTo>
                <a:lnTo>
                  <a:pt x="1479" y="199"/>
                </a:lnTo>
                <a:lnTo>
                  <a:pt x="1458" y="229"/>
                </a:lnTo>
                <a:lnTo>
                  <a:pt x="1436" y="260"/>
                </a:lnTo>
                <a:lnTo>
                  <a:pt x="1416" y="288"/>
                </a:lnTo>
                <a:lnTo>
                  <a:pt x="1396" y="317"/>
                </a:lnTo>
                <a:lnTo>
                  <a:pt x="1376" y="346"/>
                </a:lnTo>
                <a:lnTo>
                  <a:pt x="1356" y="373"/>
                </a:lnTo>
                <a:lnTo>
                  <a:pt x="1336" y="401"/>
                </a:lnTo>
                <a:lnTo>
                  <a:pt x="1317" y="427"/>
                </a:lnTo>
                <a:lnTo>
                  <a:pt x="1297" y="451"/>
                </a:lnTo>
                <a:lnTo>
                  <a:pt x="1278" y="476"/>
                </a:lnTo>
                <a:lnTo>
                  <a:pt x="1259" y="500"/>
                </a:lnTo>
                <a:lnTo>
                  <a:pt x="1242" y="523"/>
                </a:lnTo>
                <a:lnTo>
                  <a:pt x="1223" y="546"/>
                </a:lnTo>
                <a:lnTo>
                  <a:pt x="1206" y="568"/>
                </a:lnTo>
                <a:lnTo>
                  <a:pt x="1187" y="589"/>
                </a:lnTo>
                <a:lnTo>
                  <a:pt x="1170" y="611"/>
                </a:lnTo>
                <a:lnTo>
                  <a:pt x="1153" y="630"/>
                </a:lnTo>
                <a:lnTo>
                  <a:pt x="1137" y="650"/>
                </a:lnTo>
                <a:lnTo>
                  <a:pt x="1120" y="668"/>
                </a:lnTo>
                <a:lnTo>
                  <a:pt x="1104" y="686"/>
                </a:lnTo>
                <a:lnTo>
                  <a:pt x="1086" y="703"/>
                </a:lnTo>
                <a:lnTo>
                  <a:pt x="1071" y="720"/>
                </a:lnTo>
                <a:lnTo>
                  <a:pt x="1056" y="735"/>
                </a:lnTo>
                <a:lnTo>
                  <a:pt x="1040" y="750"/>
                </a:lnTo>
                <a:lnTo>
                  <a:pt x="1025" y="765"/>
                </a:lnTo>
                <a:lnTo>
                  <a:pt x="1010" y="779"/>
                </a:lnTo>
                <a:lnTo>
                  <a:pt x="980" y="805"/>
                </a:lnTo>
                <a:lnTo>
                  <a:pt x="948" y="833"/>
                </a:lnTo>
                <a:lnTo>
                  <a:pt x="915" y="858"/>
                </a:lnTo>
                <a:lnTo>
                  <a:pt x="882" y="886"/>
                </a:lnTo>
                <a:lnTo>
                  <a:pt x="846" y="912"/>
                </a:lnTo>
                <a:lnTo>
                  <a:pt x="810" y="939"/>
                </a:lnTo>
                <a:lnTo>
                  <a:pt x="773" y="966"/>
                </a:lnTo>
                <a:lnTo>
                  <a:pt x="734" y="992"/>
                </a:lnTo>
                <a:lnTo>
                  <a:pt x="695" y="1020"/>
                </a:lnTo>
                <a:lnTo>
                  <a:pt x="653" y="1048"/>
                </a:lnTo>
                <a:lnTo>
                  <a:pt x="611" y="1076"/>
                </a:lnTo>
                <a:lnTo>
                  <a:pt x="570" y="1105"/>
                </a:lnTo>
                <a:lnTo>
                  <a:pt x="526" y="1132"/>
                </a:lnTo>
                <a:lnTo>
                  <a:pt x="482" y="1162"/>
                </a:lnTo>
                <a:lnTo>
                  <a:pt x="437" y="1191"/>
                </a:lnTo>
                <a:lnTo>
                  <a:pt x="391" y="1221"/>
                </a:lnTo>
                <a:lnTo>
                  <a:pt x="368" y="1236"/>
                </a:lnTo>
                <a:lnTo>
                  <a:pt x="347" y="1250"/>
                </a:lnTo>
                <a:lnTo>
                  <a:pt x="325" y="1264"/>
                </a:lnTo>
                <a:lnTo>
                  <a:pt x="305" y="1276"/>
                </a:lnTo>
                <a:lnTo>
                  <a:pt x="285" y="1289"/>
                </a:lnTo>
                <a:lnTo>
                  <a:pt x="266" y="1300"/>
                </a:lnTo>
                <a:lnTo>
                  <a:pt x="247" y="1312"/>
                </a:lnTo>
                <a:lnTo>
                  <a:pt x="228" y="1322"/>
                </a:lnTo>
                <a:lnTo>
                  <a:pt x="211" y="1332"/>
                </a:lnTo>
                <a:lnTo>
                  <a:pt x="195" y="1341"/>
                </a:lnTo>
                <a:lnTo>
                  <a:pt x="180" y="1351"/>
                </a:lnTo>
                <a:lnTo>
                  <a:pt x="165" y="1358"/>
                </a:lnTo>
                <a:lnTo>
                  <a:pt x="151" y="1367"/>
                </a:lnTo>
                <a:lnTo>
                  <a:pt x="136" y="1372"/>
                </a:lnTo>
                <a:lnTo>
                  <a:pt x="123" y="1380"/>
                </a:lnTo>
                <a:lnTo>
                  <a:pt x="110" y="1385"/>
                </a:lnTo>
                <a:lnTo>
                  <a:pt x="99" y="1391"/>
                </a:lnTo>
                <a:lnTo>
                  <a:pt x="89" y="1395"/>
                </a:lnTo>
                <a:lnTo>
                  <a:pt x="77" y="1401"/>
                </a:lnTo>
                <a:lnTo>
                  <a:pt x="69" y="1404"/>
                </a:lnTo>
                <a:lnTo>
                  <a:pt x="59" y="1408"/>
                </a:lnTo>
                <a:lnTo>
                  <a:pt x="50" y="1411"/>
                </a:lnTo>
                <a:lnTo>
                  <a:pt x="43" y="1414"/>
                </a:lnTo>
                <a:lnTo>
                  <a:pt x="36" y="1416"/>
                </a:lnTo>
                <a:lnTo>
                  <a:pt x="30" y="1417"/>
                </a:lnTo>
                <a:lnTo>
                  <a:pt x="23" y="1418"/>
                </a:lnTo>
                <a:lnTo>
                  <a:pt x="18" y="1418"/>
                </a:lnTo>
                <a:lnTo>
                  <a:pt x="14" y="1418"/>
                </a:lnTo>
                <a:lnTo>
                  <a:pt x="10" y="1418"/>
                </a:lnTo>
                <a:lnTo>
                  <a:pt x="7" y="1418"/>
                </a:lnTo>
                <a:lnTo>
                  <a:pt x="4" y="1417"/>
                </a:lnTo>
                <a:lnTo>
                  <a:pt x="2" y="1416"/>
                </a:lnTo>
                <a:lnTo>
                  <a:pt x="1" y="1413"/>
                </a:lnTo>
                <a:lnTo>
                  <a:pt x="0" y="1408"/>
                </a:lnTo>
                <a:lnTo>
                  <a:pt x="0" y="1404"/>
                </a:lnTo>
                <a:lnTo>
                  <a:pt x="1" y="1400"/>
                </a:lnTo>
                <a:lnTo>
                  <a:pt x="2" y="1394"/>
                </a:lnTo>
                <a:lnTo>
                  <a:pt x="5" y="1388"/>
                </a:lnTo>
                <a:lnTo>
                  <a:pt x="8" y="1382"/>
                </a:lnTo>
                <a:lnTo>
                  <a:pt x="13" y="1377"/>
                </a:lnTo>
                <a:lnTo>
                  <a:pt x="17" y="1370"/>
                </a:lnTo>
                <a:lnTo>
                  <a:pt x="23" y="1362"/>
                </a:lnTo>
                <a:lnTo>
                  <a:pt x="28" y="1355"/>
                </a:lnTo>
                <a:lnTo>
                  <a:pt x="36" y="1347"/>
                </a:lnTo>
                <a:lnTo>
                  <a:pt x="44" y="1338"/>
                </a:lnTo>
                <a:lnTo>
                  <a:pt x="51" y="1329"/>
                </a:lnTo>
                <a:lnTo>
                  <a:pt x="61" y="1321"/>
                </a:lnTo>
                <a:lnTo>
                  <a:pt x="72" y="1311"/>
                </a:lnTo>
                <a:lnTo>
                  <a:pt x="82" y="1300"/>
                </a:lnTo>
                <a:lnTo>
                  <a:pt x="93" y="1290"/>
                </a:lnTo>
                <a:lnTo>
                  <a:pt x="106" y="1279"/>
                </a:lnTo>
                <a:lnTo>
                  <a:pt x="119" y="1267"/>
                </a:lnTo>
                <a:lnTo>
                  <a:pt x="133" y="1256"/>
                </a:lnTo>
                <a:lnTo>
                  <a:pt x="148" y="1244"/>
                </a:lnTo>
                <a:lnTo>
                  <a:pt x="164" y="1231"/>
                </a:lnTo>
                <a:lnTo>
                  <a:pt x="180" y="1218"/>
                </a:lnTo>
                <a:lnTo>
                  <a:pt x="197" y="1204"/>
                </a:lnTo>
                <a:lnTo>
                  <a:pt x="214" y="1191"/>
                </a:lnTo>
                <a:lnTo>
                  <a:pt x="233" y="1177"/>
                </a:lnTo>
                <a:lnTo>
                  <a:pt x="253" y="1161"/>
                </a:lnTo>
                <a:lnTo>
                  <a:pt x="273" y="1146"/>
                </a:lnTo>
                <a:lnTo>
                  <a:pt x="293" y="1131"/>
                </a:lnTo>
                <a:lnTo>
                  <a:pt x="315" y="1115"/>
                </a:lnTo>
                <a:lnTo>
                  <a:pt x="338" y="1097"/>
                </a:lnTo>
                <a:lnTo>
                  <a:pt x="380" y="1064"/>
                </a:lnTo>
                <a:lnTo>
                  <a:pt x="421" y="1031"/>
                </a:lnTo>
                <a:lnTo>
                  <a:pt x="463" y="1000"/>
                </a:lnTo>
                <a:lnTo>
                  <a:pt x="502" y="968"/>
                </a:lnTo>
                <a:lnTo>
                  <a:pt x="542" y="936"/>
                </a:lnTo>
                <a:lnTo>
                  <a:pt x="580" y="906"/>
                </a:lnTo>
                <a:lnTo>
                  <a:pt x="616" y="876"/>
                </a:lnTo>
                <a:lnTo>
                  <a:pt x="652" y="847"/>
                </a:lnTo>
                <a:lnTo>
                  <a:pt x="686" y="818"/>
                </a:lnTo>
                <a:lnTo>
                  <a:pt x="719" y="791"/>
                </a:lnTo>
                <a:lnTo>
                  <a:pt x="751" y="763"/>
                </a:lnTo>
                <a:lnTo>
                  <a:pt x="767" y="750"/>
                </a:lnTo>
                <a:lnTo>
                  <a:pt x="781" y="738"/>
                </a:lnTo>
                <a:lnTo>
                  <a:pt x="796" y="725"/>
                </a:lnTo>
                <a:lnTo>
                  <a:pt x="810" y="712"/>
                </a:lnTo>
                <a:lnTo>
                  <a:pt x="823" y="699"/>
                </a:lnTo>
                <a:lnTo>
                  <a:pt x="837" y="686"/>
                </a:lnTo>
                <a:lnTo>
                  <a:pt x="850" y="674"/>
                </a:lnTo>
                <a:lnTo>
                  <a:pt x="862" y="661"/>
                </a:lnTo>
                <a:lnTo>
                  <a:pt x="875" y="650"/>
                </a:lnTo>
                <a:lnTo>
                  <a:pt x="886" y="638"/>
                </a:lnTo>
                <a:lnTo>
                  <a:pt x="898" y="625"/>
                </a:lnTo>
                <a:lnTo>
                  <a:pt x="909" y="614"/>
                </a:lnTo>
                <a:lnTo>
                  <a:pt x="921" y="601"/>
                </a:lnTo>
                <a:lnTo>
                  <a:pt x="934" y="586"/>
                </a:lnTo>
                <a:lnTo>
                  <a:pt x="945" y="573"/>
                </a:lnTo>
                <a:lnTo>
                  <a:pt x="957" y="559"/>
                </a:lnTo>
                <a:lnTo>
                  <a:pt x="970" y="543"/>
                </a:lnTo>
                <a:lnTo>
                  <a:pt x="983" y="529"/>
                </a:lnTo>
                <a:lnTo>
                  <a:pt x="994" y="513"/>
                </a:lnTo>
                <a:lnTo>
                  <a:pt x="1007" y="496"/>
                </a:lnTo>
                <a:lnTo>
                  <a:pt x="1020" y="480"/>
                </a:lnTo>
                <a:lnTo>
                  <a:pt x="1033" y="463"/>
                </a:lnTo>
                <a:lnTo>
                  <a:pt x="1046" y="445"/>
                </a:lnTo>
                <a:lnTo>
                  <a:pt x="1059" y="427"/>
                </a:lnTo>
                <a:lnTo>
                  <a:pt x="1072" y="409"/>
                </a:lnTo>
                <a:lnTo>
                  <a:pt x="1086" y="389"/>
                </a:lnTo>
                <a:lnTo>
                  <a:pt x="1099" y="370"/>
                </a:lnTo>
                <a:lnTo>
                  <a:pt x="1112" y="350"/>
                </a:lnTo>
                <a:lnTo>
                  <a:pt x="1127" y="332"/>
                </a:lnTo>
                <a:lnTo>
                  <a:pt x="1140" y="310"/>
                </a:lnTo>
                <a:lnTo>
                  <a:pt x="1154" y="290"/>
                </a:lnTo>
                <a:lnTo>
                  <a:pt x="1167" y="268"/>
                </a:lnTo>
                <a:lnTo>
                  <a:pt x="1181" y="247"/>
                </a:lnTo>
                <a:lnTo>
                  <a:pt x="1196" y="225"/>
                </a:lnTo>
                <a:lnTo>
                  <a:pt x="1210" y="202"/>
                </a:lnTo>
                <a:lnTo>
                  <a:pt x="1225" y="180"/>
                </a:lnTo>
                <a:lnTo>
                  <a:pt x="1239" y="156"/>
                </a:lnTo>
                <a:lnTo>
                  <a:pt x="1253" y="133"/>
                </a:lnTo>
                <a:lnTo>
                  <a:pt x="1282" y="85"/>
                </a:lnTo>
                <a:lnTo>
                  <a:pt x="1311" y="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78"/>
          <p:cNvSpPr/>
          <p:nvPr/>
        </p:nvSpPr>
        <p:spPr>
          <a:xfrm>
            <a:off x="6780240" y="3162240"/>
            <a:ext cx="925560" cy="196920"/>
          </a:xfrm>
          <a:custGeom>
            <a:avLst/>
            <a:gdLst/>
            <a:ahLst/>
            <a:rect l="l" t="t" r="r" b="b"/>
            <a:pathLst>
              <a:path w="1750" h="371">
                <a:moveTo>
                  <a:pt x="0" y="265"/>
                </a:moveTo>
                <a:lnTo>
                  <a:pt x="81" y="247"/>
                </a:lnTo>
                <a:lnTo>
                  <a:pt x="160" y="232"/>
                </a:lnTo>
                <a:lnTo>
                  <a:pt x="237" y="216"/>
                </a:lnTo>
                <a:lnTo>
                  <a:pt x="312" y="201"/>
                </a:lnTo>
                <a:lnTo>
                  <a:pt x="384" y="187"/>
                </a:lnTo>
                <a:lnTo>
                  <a:pt x="453" y="173"/>
                </a:lnTo>
                <a:lnTo>
                  <a:pt x="521" y="160"/>
                </a:lnTo>
                <a:lnTo>
                  <a:pt x="586" y="147"/>
                </a:lnTo>
                <a:lnTo>
                  <a:pt x="649" y="135"/>
                </a:lnTo>
                <a:lnTo>
                  <a:pt x="710" y="124"/>
                </a:lnTo>
                <a:lnTo>
                  <a:pt x="767" y="112"/>
                </a:lnTo>
                <a:lnTo>
                  <a:pt x="823" y="101"/>
                </a:lnTo>
                <a:lnTo>
                  <a:pt x="877" y="91"/>
                </a:lnTo>
                <a:lnTo>
                  <a:pt x="927" y="82"/>
                </a:lnTo>
                <a:lnTo>
                  <a:pt x="976" y="73"/>
                </a:lnTo>
                <a:lnTo>
                  <a:pt x="1022" y="65"/>
                </a:lnTo>
                <a:lnTo>
                  <a:pt x="1067" y="56"/>
                </a:lnTo>
                <a:lnTo>
                  <a:pt x="1108" y="49"/>
                </a:lnTo>
                <a:lnTo>
                  <a:pt x="1147" y="42"/>
                </a:lnTo>
                <a:lnTo>
                  <a:pt x="1185" y="36"/>
                </a:lnTo>
                <a:lnTo>
                  <a:pt x="1219" y="30"/>
                </a:lnTo>
                <a:lnTo>
                  <a:pt x="1252" y="24"/>
                </a:lnTo>
                <a:lnTo>
                  <a:pt x="1283" y="20"/>
                </a:lnTo>
                <a:lnTo>
                  <a:pt x="1310" y="16"/>
                </a:lnTo>
                <a:lnTo>
                  <a:pt x="1336" y="11"/>
                </a:lnTo>
                <a:lnTo>
                  <a:pt x="1359" y="8"/>
                </a:lnTo>
                <a:lnTo>
                  <a:pt x="1379" y="6"/>
                </a:lnTo>
                <a:lnTo>
                  <a:pt x="1398" y="3"/>
                </a:lnTo>
                <a:lnTo>
                  <a:pt x="1415" y="1"/>
                </a:lnTo>
                <a:lnTo>
                  <a:pt x="1428" y="0"/>
                </a:lnTo>
                <a:lnTo>
                  <a:pt x="1440" y="0"/>
                </a:lnTo>
                <a:lnTo>
                  <a:pt x="1450" y="0"/>
                </a:lnTo>
                <a:lnTo>
                  <a:pt x="1463" y="0"/>
                </a:lnTo>
                <a:lnTo>
                  <a:pt x="1476" y="0"/>
                </a:lnTo>
                <a:lnTo>
                  <a:pt x="1503" y="3"/>
                </a:lnTo>
                <a:lnTo>
                  <a:pt x="1529" y="6"/>
                </a:lnTo>
                <a:lnTo>
                  <a:pt x="1556" y="10"/>
                </a:lnTo>
                <a:lnTo>
                  <a:pt x="1582" y="16"/>
                </a:lnTo>
                <a:lnTo>
                  <a:pt x="1609" y="21"/>
                </a:lnTo>
                <a:lnTo>
                  <a:pt x="1635" y="27"/>
                </a:lnTo>
                <a:lnTo>
                  <a:pt x="1663" y="34"/>
                </a:lnTo>
                <a:lnTo>
                  <a:pt x="1671" y="42"/>
                </a:lnTo>
                <a:lnTo>
                  <a:pt x="1681" y="47"/>
                </a:lnTo>
                <a:lnTo>
                  <a:pt x="1690" y="53"/>
                </a:lnTo>
                <a:lnTo>
                  <a:pt x="1699" y="59"/>
                </a:lnTo>
                <a:lnTo>
                  <a:pt x="1706" y="63"/>
                </a:lnTo>
                <a:lnTo>
                  <a:pt x="1713" y="67"/>
                </a:lnTo>
                <a:lnTo>
                  <a:pt x="1720" y="72"/>
                </a:lnTo>
                <a:lnTo>
                  <a:pt x="1726" y="76"/>
                </a:lnTo>
                <a:lnTo>
                  <a:pt x="1732" y="80"/>
                </a:lnTo>
                <a:lnTo>
                  <a:pt x="1736" y="85"/>
                </a:lnTo>
                <a:lnTo>
                  <a:pt x="1740" y="89"/>
                </a:lnTo>
                <a:lnTo>
                  <a:pt x="1745" y="92"/>
                </a:lnTo>
                <a:lnTo>
                  <a:pt x="1746" y="95"/>
                </a:lnTo>
                <a:lnTo>
                  <a:pt x="1749" y="99"/>
                </a:lnTo>
                <a:lnTo>
                  <a:pt x="1750" y="102"/>
                </a:lnTo>
                <a:lnTo>
                  <a:pt x="1750" y="106"/>
                </a:lnTo>
                <a:lnTo>
                  <a:pt x="1750" y="109"/>
                </a:lnTo>
                <a:lnTo>
                  <a:pt x="1749" y="114"/>
                </a:lnTo>
                <a:lnTo>
                  <a:pt x="1749" y="116"/>
                </a:lnTo>
                <a:lnTo>
                  <a:pt x="1748" y="121"/>
                </a:lnTo>
                <a:lnTo>
                  <a:pt x="1745" y="127"/>
                </a:lnTo>
                <a:lnTo>
                  <a:pt x="1743" y="131"/>
                </a:lnTo>
                <a:lnTo>
                  <a:pt x="1740" y="135"/>
                </a:lnTo>
                <a:lnTo>
                  <a:pt x="1738" y="141"/>
                </a:lnTo>
                <a:lnTo>
                  <a:pt x="1733" y="145"/>
                </a:lnTo>
                <a:lnTo>
                  <a:pt x="1729" y="151"/>
                </a:lnTo>
                <a:lnTo>
                  <a:pt x="1725" y="155"/>
                </a:lnTo>
                <a:lnTo>
                  <a:pt x="1720" y="160"/>
                </a:lnTo>
                <a:lnTo>
                  <a:pt x="1716" y="164"/>
                </a:lnTo>
                <a:lnTo>
                  <a:pt x="1710" y="168"/>
                </a:lnTo>
                <a:lnTo>
                  <a:pt x="1703" y="173"/>
                </a:lnTo>
                <a:lnTo>
                  <a:pt x="1697" y="177"/>
                </a:lnTo>
                <a:lnTo>
                  <a:pt x="1693" y="180"/>
                </a:lnTo>
                <a:lnTo>
                  <a:pt x="1689" y="183"/>
                </a:lnTo>
                <a:lnTo>
                  <a:pt x="1681" y="187"/>
                </a:lnTo>
                <a:lnTo>
                  <a:pt x="1674" y="190"/>
                </a:lnTo>
                <a:lnTo>
                  <a:pt x="1666" y="193"/>
                </a:lnTo>
                <a:lnTo>
                  <a:pt x="1655" y="197"/>
                </a:lnTo>
                <a:lnTo>
                  <a:pt x="1644" y="200"/>
                </a:lnTo>
                <a:lnTo>
                  <a:pt x="1631" y="203"/>
                </a:lnTo>
                <a:lnTo>
                  <a:pt x="1618" y="207"/>
                </a:lnTo>
                <a:lnTo>
                  <a:pt x="1602" y="210"/>
                </a:lnTo>
                <a:lnTo>
                  <a:pt x="1586" y="213"/>
                </a:lnTo>
                <a:lnTo>
                  <a:pt x="1569" y="217"/>
                </a:lnTo>
                <a:lnTo>
                  <a:pt x="1550" y="220"/>
                </a:lnTo>
                <a:lnTo>
                  <a:pt x="1530" y="224"/>
                </a:lnTo>
                <a:lnTo>
                  <a:pt x="1510" y="227"/>
                </a:lnTo>
                <a:lnTo>
                  <a:pt x="1487" y="232"/>
                </a:lnTo>
                <a:lnTo>
                  <a:pt x="1464" y="234"/>
                </a:lnTo>
                <a:lnTo>
                  <a:pt x="1440" y="239"/>
                </a:lnTo>
                <a:lnTo>
                  <a:pt x="1414" y="243"/>
                </a:lnTo>
                <a:lnTo>
                  <a:pt x="1386" y="246"/>
                </a:lnTo>
                <a:lnTo>
                  <a:pt x="1359" y="250"/>
                </a:lnTo>
                <a:lnTo>
                  <a:pt x="1330" y="255"/>
                </a:lnTo>
                <a:lnTo>
                  <a:pt x="1298" y="259"/>
                </a:lnTo>
                <a:lnTo>
                  <a:pt x="1267" y="263"/>
                </a:lnTo>
                <a:lnTo>
                  <a:pt x="1235" y="268"/>
                </a:lnTo>
                <a:lnTo>
                  <a:pt x="1201" y="272"/>
                </a:lnTo>
                <a:lnTo>
                  <a:pt x="1166" y="276"/>
                </a:lnTo>
                <a:lnTo>
                  <a:pt x="1129" y="281"/>
                </a:lnTo>
                <a:lnTo>
                  <a:pt x="1091" y="285"/>
                </a:lnTo>
                <a:lnTo>
                  <a:pt x="1054" y="291"/>
                </a:lnTo>
                <a:lnTo>
                  <a:pt x="1013" y="295"/>
                </a:lnTo>
                <a:lnTo>
                  <a:pt x="973" y="301"/>
                </a:lnTo>
                <a:lnTo>
                  <a:pt x="930" y="305"/>
                </a:lnTo>
                <a:lnTo>
                  <a:pt x="888" y="309"/>
                </a:lnTo>
                <a:lnTo>
                  <a:pt x="846" y="314"/>
                </a:lnTo>
                <a:lnTo>
                  <a:pt x="806" y="318"/>
                </a:lnTo>
                <a:lnTo>
                  <a:pt x="767" y="322"/>
                </a:lnTo>
                <a:lnTo>
                  <a:pt x="728" y="327"/>
                </a:lnTo>
                <a:lnTo>
                  <a:pt x="691" y="331"/>
                </a:lnTo>
                <a:lnTo>
                  <a:pt x="654" y="334"/>
                </a:lnTo>
                <a:lnTo>
                  <a:pt x="618" y="337"/>
                </a:lnTo>
                <a:lnTo>
                  <a:pt x="582" y="341"/>
                </a:lnTo>
                <a:lnTo>
                  <a:pt x="547" y="344"/>
                </a:lnTo>
                <a:lnTo>
                  <a:pt x="514" y="347"/>
                </a:lnTo>
                <a:lnTo>
                  <a:pt x="481" y="348"/>
                </a:lnTo>
                <a:lnTo>
                  <a:pt x="448" y="351"/>
                </a:lnTo>
                <a:lnTo>
                  <a:pt x="417" y="354"/>
                </a:lnTo>
                <a:lnTo>
                  <a:pt x="386" y="355"/>
                </a:lnTo>
                <a:lnTo>
                  <a:pt x="357" y="357"/>
                </a:lnTo>
                <a:lnTo>
                  <a:pt x="327" y="360"/>
                </a:lnTo>
                <a:lnTo>
                  <a:pt x="299" y="361"/>
                </a:lnTo>
                <a:lnTo>
                  <a:pt x="271" y="363"/>
                </a:lnTo>
                <a:lnTo>
                  <a:pt x="245" y="364"/>
                </a:lnTo>
                <a:lnTo>
                  <a:pt x="219" y="366"/>
                </a:lnTo>
                <a:lnTo>
                  <a:pt x="193" y="366"/>
                </a:lnTo>
                <a:lnTo>
                  <a:pt x="168" y="367"/>
                </a:lnTo>
                <a:lnTo>
                  <a:pt x="145" y="368"/>
                </a:lnTo>
                <a:lnTo>
                  <a:pt x="122" y="368"/>
                </a:lnTo>
                <a:lnTo>
                  <a:pt x="99" y="370"/>
                </a:lnTo>
                <a:lnTo>
                  <a:pt x="78" y="370"/>
                </a:lnTo>
                <a:lnTo>
                  <a:pt x="58" y="370"/>
                </a:lnTo>
                <a:lnTo>
                  <a:pt x="37" y="370"/>
                </a:lnTo>
                <a:lnTo>
                  <a:pt x="17" y="370"/>
                </a:lnTo>
                <a:lnTo>
                  <a:pt x="0" y="371"/>
                </a:lnTo>
                <a:lnTo>
                  <a:pt x="0" y="2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79"/>
          <p:cNvSpPr/>
          <p:nvPr/>
        </p:nvSpPr>
        <p:spPr>
          <a:xfrm>
            <a:off x="6854760" y="3419640"/>
            <a:ext cx="646200" cy="1152360"/>
          </a:xfrm>
          <a:custGeom>
            <a:avLst/>
            <a:gdLst/>
            <a:ahLst/>
            <a:rect l="l" t="t" r="r" b="b"/>
            <a:pathLst>
              <a:path w="1221" h="2177">
                <a:moveTo>
                  <a:pt x="265" y="2007"/>
                </a:moveTo>
                <a:lnTo>
                  <a:pt x="252" y="2020"/>
                </a:lnTo>
                <a:lnTo>
                  <a:pt x="239" y="2033"/>
                </a:lnTo>
                <a:lnTo>
                  <a:pt x="227" y="2045"/>
                </a:lnTo>
                <a:lnTo>
                  <a:pt x="215" y="2056"/>
                </a:lnTo>
                <a:lnTo>
                  <a:pt x="203" y="2068"/>
                </a:lnTo>
                <a:lnTo>
                  <a:pt x="191" y="2078"/>
                </a:lnTo>
                <a:lnTo>
                  <a:pt x="180" y="2088"/>
                </a:lnTo>
                <a:lnTo>
                  <a:pt x="170" y="2098"/>
                </a:lnTo>
                <a:lnTo>
                  <a:pt x="158" y="2107"/>
                </a:lnTo>
                <a:lnTo>
                  <a:pt x="148" y="2115"/>
                </a:lnTo>
                <a:lnTo>
                  <a:pt x="138" y="2122"/>
                </a:lnTo>
                <a:lnTo>
                  <a:pt x="130" y="2130"/>
                </a:lnTo>
                <a:lnTo>
                  <a:pt x="120" y="2137"/>
                </a:lnTo>
                <a:lnTo>
                  <a:pt x="111" y="2143"/>
                </a:lnTo>
                <a:lnTo>
                  <a:pt x="102" y="2148"/>
                </a:lnTo>
                <a:lnTo>
                  <a:pt x="94" y="2154"/>
                </a:lnTo>
                <a:lnTo>
                  <a:pt x="85" y="2158"/>
                </a:lnTo>
                <a:lnTo>
                  <a:pt x="76" y="2163"/>
                </a:lnTo>
                <a:lnTo>
                  <a:pt x="69" y="2167"/>
                </a:lnTo>
                <a:lnTo>
                  <a:pt x="62" y="2170"/>
                </a:lnTo>
                <a:lnTo>
                  <a:pt x="55" y="2173"/>
                </a:lnTo>
                <a:lnTo>
                  <a:pt x="49" y="2174"/>
                </a:lnTo>
                <a:lnTo>
                  <a:pt x="42" y="2176"/>
                </a:lnTo>
                <a:lnTo>
                  <a:pt x="36" y="2177"/>
                </a:lnTo>
                <a:lnTo>
                  <a:pt x="30" y="2177"/>
                </a:lnTo>
                <a:lnTo>
                  <a:pt x="26" y="2177"/>
                </a:lnTo>
                <a:lnTo>
                  <a:pt x="20" y="2177"/>
                </a:lnTo>
                <a:lnTo>
                  <a:pt x="16" y="2176"/>
                </a:lnTo>
                <a:lnTo>
                  <a:pt x="12" y="2174"/>
                </a:lnTo>
                <a:lnTo>
                  <a:pt x="7" y="2171"/>
                </a:lnTo>
                <a:lnTo>
                  <a:pt x="3" y="2170"/>
                </a:lnTo>
                <a:lnTo>
                  <a:pt x="0" y="2167"/>
                </a:lnTo>
                <a:lnTo>
                  <a:pt x="55" y="2084"/>
                </a:lnTo>
                <a:lnTo>
                  <a:pt x="108" y="2004"/>
                </a:lnTo>
                <a:lnTo>
                  <a:pt x="158" y="1928"/>
                </a:lnTo>
                <a:lnTo>
                  <a:pt x="207" y="1853"/>
                </a:lnTo>
                <a:lnTo>
                  <a:pt x="255" y="1781"/>
                </a:lnTo>
                <a:lnTo>
                  <a:pt x="299" y="1712"/>
                </a:lnTo>
                <a:lnTo>
                  <a:pt x="343" y="1645"/>
                </a:lnTo>
                <a:lnTo>
                  <a:pt x="384" y="1580"/>
                </a:lnTo>
                <a:lnTo>
                  <a:pt x="423" y="1518"/>
                </a:lnTo>
                <a:lnTo>
                  <a:pt x="459" y="1457"/>
                </a:lnTo>
                <a:lnTo>
                  <a:pt x="495" y="1400"/>
                </a:lnTo>
                <a:lnTo>
                  <a:pt x="527" y="1344"/>
                </a:lnTo>
                <a:lnTo>
                  <a:pt x="559" y="1290"/>
                </a:lnTo>
                <a:lnTo>
                  <a:pt x="586" y="1239"/>
                </a:lnTo>
                <a:lnTo>
                  <a:pt x="612" y="1188"/>
                </a:lnTo>
                <a:lnTo>
                  <a:pt x="636" y="1141"/>
                </a:lnTo>
                <a:lnTo>
                  <a:pt x="655" y="1095"/>
                </a:lnTo>
                <a:lnTo>
                  <a:pt x="674" y="1048"/>
                </a:lnTo>
                <a:lnTo>
                  <a:pt x="692" y="1002"/>
                </a:lnTo>
                <a:lnTo>
                  <a:pt x="708" y="958"/>
                </a:lnTo>
                <a:lnTo>
                  <a:pt x="726" y="913"/>
                </a:lnTo>
                <a:lnTo>
                  <a:pt x="741" y="870"/>
                </a:lnTo>
                <a:lnTo>
                  <a:pt x="756" y="825"/>
                </a:lnTo>
                <a:lnTo>
                  <a:pt x="772" y="782"/>
                </a:lnTo>
                <a:lnTo>
                  <a:pt x="785" y="739"/>
                </a:lnTo>
                <a:lnTo>
                  <a:pt x="798" y="697"/>
                </a:lnTo>
                <a:lnTo>
                  <a:pt x="811" y="655"/>
                </a:lnTo>
                <a:lnTo>
                  <a:pt x="823" y="614"/>
                </a:lnTo>
                <a:lnTo>
                  <a:pt x="835" y="572"/>
                </a:lnTo>
                <a:lnTo>
                  <a:pt x="847" y="532"/>
                </a:lnTo>
                <a:lnTo>
                  <a:pt x="857" y="491"/>
                </a:lnTo>
                <a:lnTo>
                  <a:pt x="867" y="451"/>
                </a:lnTo>
                <a:lnTo>
                  <a:pt x="871" y="432"/>
                </a:lnTo>
                <a:lnTo>
                  <a:pt x="875" y="415"/>
                </a:lnTo>
                <a:lnTo>
                  <a:pt x="880" y="398"/>
                </a:lnTo>
                <a:lnTo>
                  <a:pt x="884" y="382"/>
                </a:lnTo>
                <a:lnTo>
                  <a:pt x="887" y="365"/>
                </a:lnTo>
                <a:lnTo>
                  <a:pt x="891" y="349"/>
                </a:lnTo>
                <a:lnTo>
                  <a:pt x="894" y="333"/>
                </a:lnTo>
                <a:lnTo>
                  <a:pt x="897" y="319"/>
                </a:lnTo>
                <a:lnTo>
                  <a:pt x="898" y="304"/>
                </a:lnTo>
                <a:lnTo>
                  <a:pt x="901" y="290"/>
                </a:lnTo>
                <a:lnTo>
                  <a:pt x="903" y="275"/>
                </a:lnTo>
                <a:lnTo>
                  <a:pt x="906" y="262"/>
                </a:lnTo>
                <a:lnTo>
                  <a:pt x="907" y="249"/>
                </a:lnTo>
                <a:lnTo>
                  <a:pt x="908" y="238"/>
                </a:lnTo>
                <a:lnTo>
                  <a:pt x="910" y="226"/>
                </a:lnTo>
                <a:lnTo>
                  <a:pt x="910" y="215"/>
                </a:lnTo>
                <a:lnTo>
                  <a:pt x="911" y="203"/>
                </a:lnTo>
                <a:lnTo>
                  <a:pt x="911" y="193"/>
                </a:lnTo>
                <a:lnTo>
                  <a:pt x="911" y="183"/>
                </a:lnTo>
                <a:lnTo>
                  <a:pt x="913" y="173"/>
                </a:lnTo>
                <a:lnTo>
                  <a:pt x="913" y="165"/>
                </a:lnTo>
                <a:lnTo>
                  <a:pt x="911" y="156"/>
                </a:lnTo>
                <a:lnTo>
                  <a:pt x="911" y="147"/>
                </a:lnTo>
                <a:lnTo>
                  <a:pt x="911" y="140"/>
                </a:lnTo>
                <a:lnTo>
                  <a:pt x="910" y="133"/>
                </a:lnTo>
                <a:lnTo>
                  <a:pt x="910" y="126"/>
                </a:lnTo>
                <a:lnTo>
                  <a:pt x="908" y="120"/>
                </a:lnTo>
                <a:lnTo>
                  <a:pt x="907" y="114"/>
                </a:lnTo>
                <a:lnTo>
                  <a:pt x="907" y="110"/>
                </a:lnTo>
                <a:lnTo>
                  <a:pt x="906" y="104"/>
                </a:lnTo>
                <a:lnTo>
                  <a:pt x="904" y="101"/>
                </a:lnTo>
                <a:lnTo>
                  <a:pt x="903" y="97"/>
                </a:lnTo>
                <a:lnTo>
                  <a:pt x="895" y="94"/>
                </a:lnTo>
                <a:lnTo>
                  <a:pt x="890" y="90"/>
                </a:lnTo>
                <a:lnTo>
                  <a:pt x="885" y="85"/>
                </a:lnTo>
                <a:lnTo>
                  <a:pt x="882" y="81"/>
                </a:lnTo>
                <a:lnTo>
                  <a:pt x="878" y="77"/>
                </a:lnTo>
                <a:lnTo>
                  <a:pt x="877" y="71"/>
                </a:lnTo>
                <a:lnTo>
                  <a:pt x="874" y="67"/>
                </a:lnTo>
                <a:lnTo>
                  <a:pt x="874" y="62"/>
                </a:lnTo>
                <a:lnTo>
                  <a:pt x="872" y="57"/>
                </a:lnTo>
                <a:lnTo>
                  <a:pt x="872" y="52"/>
                </a:lnTo>
                <a:lnTo>
                  <a:pt x="874" y="46"/>
                </a:lnTo>
                <a:lnTo>
                  <a:pt x="874" y="42"/>
                </a:lnTo>
                <a:lnTo>
                  <a:pt x="877" y="38"/>
                </a:lnTo>
                <a:lnTo>
                  <a:pt x="878" y="34"/>
                </a:lnTo>
                <a:lnTo>
                  <a:pt x="881" y="29"/>
                </a:lnTo>
                <a:lnTo>
                  <a:pt x="884" y="26"/>
                </a:lnTo>
                <a:lnTo>
                  <a:pt x="888" y="23"/>
                </a:lnTo>
                <a:lnTo>
                  <a:pt x="891" y="19"/>
                </a:lnTo>
                <a:lnTo>
                  <a:pt x="895" y="16"/>
                </a:lnTo>
                <a:lnTo>
                  <a:pt x="901" y="13"/>
                </a:lnTo>
                <a:lnTo>
                  <a:pt x="906" y="11"/>
                </a:lnTo>
                <a:lnTo>
                  <a:pt x="911" y="8"/>
                </a:lnTo>
                <a:lnTo>
                  <a:pt x="917" y="6"/>
                </a:lnTo>
                <a:lnTo>
                  <a:pt x="924" y="3"/>
                </a:lnTo>
                <a:lnTo>
                  <a:pt x="931" y="2"/>
                </a:lnTo>
                <a:lnTo>
                  <a:pt x="939" y="2"/>
                </a:lnTo>
                <a:lnTo>
                  <a:pt x="946" y="0"/>
                </a:lnTo>
                <a:lnTo>
                  <a:pt x="954" y="0"/>
                </a:lnTo>
                <a:lnTo>
                  <a:pt x="963" y="2"/>
                </a:lnTo>
                <a:lnTo>
                  <a:pt x="972" y="3"/>
                </a:lnTo>
                <a:lnTo>
                  <a:pt x="980" y="5"/>
                </a:lnTo>
                <a:lnTo>
                  <a:pt x="990" y="9"/>
                </a:lnTo>
                <a:lnTo>
                  <a:pt x="1001" y="12"/>
                </a:lnTo>
                <a:lnTo>
                  <a:pt x="1011" y="16"/>
                </a:lnTo>
                <a:lnTo>
                  <a:pt x="1021" y="21"/>
                </a:lnTo>
                <a:lnTo>
                  <a:pt x="1031" y="25"/>
                </a:lnTo>
                <a:lnTo>
                  <a:pt x="1039" y="31"/>
                </a:lnTo>
                <a:lnTo>
                  <a:pt x="1049" y="36"/>
                </a:lnTo>
                <a:lnTo>
                  <a:pt x="1060" y="42"/>
                </a:lnTo>
                <a:lnTo>
                  <a:pt x="1070" y="48"/>
                </a:lnTo>
                <a:lnTo>
                  <a:pt x="1080" y="55"/>
                </a:lnTo>
                <a:lnTo>
                  <a:pt x="1090" y="62"/>
                </a:lnTo>
                <a:lnTo>
                  <a:pt x="1100" y="70"/>
                </a:lnTo>
                <a:lnTo>
                  <a:pt x="1110" y="78"/>
                </a:lnTo>
                <a:lnTo>
                  <a:pt x="1120" y="87"/>
                </a:lnTo>
                <a:lnTo>
                  <a:pt x="1130" y="95"/>
                </a:lnTo>
                <a:lnTo>
                  <a:pt x="1140" y="106"/>
                </a:lnTo>
                <a:lnTo>
                  <a:pt x="1150" y="116"/>
                </a:lnTo>
                <a:lnTo>
                  <a:pt x="1159" y="124"/>
                </a:lnTo>
                <a:lnTo>
                  <a:pt x="1168" y="134"/>
                </a:lnTo>
                <a:lnTo>
                  <a:pt x="1176" y="143"/>
                </a:lnTo>
                <a:lnTo>
                  <a:pt x="1183" y="152"/>
                </a:lnTo>
                <a:lnTo>
                  <a:pt x="1189" y="160"/>
                </a:lnTo>
                <a:lnTo>
                  <a:pt x="1195" y="167"/>
                </a:lnTo>
                <a:lnTo>
                  <a:pt x="1201" y="175"/>
                </a:lnTo>
                <a:lnTo>
                  <a:pt x="1205" y="182"/>
                </a:lnTo>
                <a:lnTo>
                  <a:pt x="1208" y="188"/>
                </a:lnTo>
                <a:lnTo>
                  <a:pt x="1212" y="193"/>
                </a:lnTo>
                <a:lnTo>
                  <a:pt x="1215" y="199"/>
                </a:lnTo>
                <a:lnTo>
                  <a:pt x="1216" y="205"/>
                </a:lnTo>
                <a:lnTo>
                  <a:pt x="1218" y="209"/>
                </a:lnTo>
                <a:lnTo>
                  <a:pt x="1219" y="213"/>
                </a:lnTo>
                <a:lnTo>
                  <a:pt x="1219" y="218"/>
                </a:lnTo>
                <a:lnTo>
                  <a:pt x="1221" y="221"/>
                </a:lnTo>
                <a:lnTo>
                  <a:pt x="1219" y="224"/>
                </a:lnTo>
                <a:lnTo>
                  <a:pt x="1219" y="228"/>
                </a:lnTo>
                <a:lnTo>
                  <a:pt x="1219" y="234"/>
                </a:lnTo>
                <a:lnTo>
                  <a:pt x="1218" y="238"/>
                </a:lnTo>
                <a:lnTo>
                  <a:pt x="1218" y="244"/>
                </a:lnTo>
                <a:lnTo>
                  <a:pt x="1216" y="249"/>
                </a:lnTo>
                <a:lnTo>
                  <a:pt x="1215" y="257"/>
                </a:lnTo>
                <a:lnTo>
                  <a:pt x="1214" y="264"/>
                </a:lnTo>
                <a:lnTo>
                  <a:pt x="1212" y="271"/>
                </a:lnTo>
                <a:lnTo>
                  <a:pt x="1209" y="280"/>
                </a:lnTo>
                <a:lnTo>
                  <a:pt x="1208" y="288"/>
                </a:lnTo>
                <a:lnTo>
                  <a:pt x="1205" y="298"/>
                </a:lnTo>
                <a:lnTo>
                  <a:pt x="1202" y="307"/>
                </a:lnTo>
                <a:lnTo>
                  <a:pt x="1199" y="317"/>
                </a:lnTo>
                <a:lnTo>
                  <a:pt x="1196" y="329"/>
                </a:lnTo>
                <a:lnTo>
                  <a:pt x="1193" y="340"/>
                </a:lnTo>
                <a:lnTo>
                  <a:pt x="1189" y="352"/>
                </a:lnTo>
                <a:lnTo>
                  <a:pt x="1186" y="365"/>
                </a:lnTo>
                <a:lnTo>
                  <a:pt x="1182" y="378"/>
                </a:lnTo>
                <a:lnTo>
                  <a:pt x="1178" y="391"/>
                </a:lnTo>
                <a:lnTo>
                  <a:pt x="1173" y="405"/>
                </a:lnTo>
                <a:lnTo>
                  <a:pt x="1169" y="419"/>
                </a:lnTo>
                <a:lnTo>
                  <a:pt x="1165" y="434"/>
                </a:lnTo>
                <a:lnTo>
                  <a:pt x="1160" y="450"/>
                </a:lnTo>
                <a:lnTo>
                  <a:pt x="1155" y="465"/>
                </a:lnTo>
                <a:lnTo>
                  <a:pt x="1150" y="483"/>
                </a:lnTo>
                <a:lnTo>
                  <a:pt x="1145" y="499"/>
                </a:lnTo>
                <a:lnTo>
                  <a:pt x="1139" y="517"/>
                </a:lnTo>
                <a:lnTo>
                  <a:pt x="1133" y="535"/>
                </a:lnTo>
                <a:lnTo>
                  <a:pt x="1127" y="553"/>
                </a:lnTo>
                <a:lnTo>
                  <a:pt x="1120" y="572"/>
                </a:lnTo>
                <a:lnTo>
                  <a:pt x="1114" y="592"/>
                </a:lnTo>
                <a:lnTo>
                  <a:pt x="1097" y="635"/>
                </a:lnTo>
                <a:lnTo>
                  <a:pt x="1080" y="680"/>
                </a:lnTo>
                <a:lnTo>
                  <a:pt x="1061" y="723"/>
                </a:lnTo>
                <a:lnTo>
                  <a:pt x="1042" y="769"/>
                </a:lnTo>
                <a:lnTo>
                  <a:pt x="1021" y="814"/>
                </a:lnTo>
                <a:lnTo>
                  <a:pt x="1001" y="860"/>
                </a:lnTo>
                <a:lnTo>
                  <a:pt x="978" y="906"/>
                </a:lnTo>
                <a:lnTo>
                  <a:pt x="954" y="952"/>
                </a:lnTo>
                <a:lnTo>
                  <a:pt x="931" y="1000"/>
                </a:lnTo>
                <a:lnTo>
                  <a:pt x="907" y="1048"/>
                </a:lnTo>
                <a:lnTo>
                  <a:pt x="881" y="1097"/>
                </a:lnTo>
                <a:lnTo>
                  <a:pt x="855" y="1146"/>
                </a:lnTo>
                <a:lnTo>
                  <a:pt x="828" y="1197"/>
                </a:lnTo>
                <a:lnTo>
                  <a:pt x="800" y="1249"/>
                </a:lnTo>
                <a:lnTo>
                  <a:pt x="772" y="1300"/>
                </a:lnTo>
                <a:lnTo>
                  <a:pt x="743" y="1354"/>
                </a:lnTo>
                <a:lnTo>
                  <a:pt x="728" y="1380"/>
                </a:lnTo>
                <a:lnTo>
                  <a:pt x="714" y="1406"/>
                </a:lnTo>
                <a:lnTo>
                  <a:pt x="698" y="1431"/>
                </a:lnTo>
                <a:lnTo>
                  <a:pt x="684" y="1456"/>
                </a:lnTo>
                <a:lnTo>
                  <a:pt x="669" y="1480"/>
                </a:lnTo>
                <a:lnTo>
                  <a:pt x="654" y="1505"/>
                </a:lnTo>
                <a:lnTo>
                  <a:pt x="639" y="1529"/>
                </a:lnTo>
                <a:lnTo>
                  <a:pt x="625" y="1552"/>
                </a:lnTo>
                <a:lnTo>
                  <a:pt x="609" y="1575"/>
                </a:lnTo>
                <a:lnTo>
                  <a:pt x="595" y="1598"/>
                </a:lnTo>
                <a:lnTo>
                  <a:pt x="579" y="1620"/>
                </a:lnTo>
                <a:lnTo>
                  <a:pt x="564" y="1643"/>
                </a:lnTo>
                <a:lnTo>
                  <a:pt x="550" y="1665"/>
                </a:lnTo>
                <a:lnTo>
                  <a:pt x="534" y="1685"/>
                </a:lnTo>
                <a:lnTo>
                  <a:pt x="520" y="1706"/>
                </a:lnTo>
                <a:lnTo>
                  <a:pt x="504" y="1727"/>
                </a:lnTo>
                <a:lnTo>
                  <a:pt x="489" y="1747"/>
                </a:lnTo>
                <a:lnTo>
                  <a:pt x="474" y="1767"/>
                </a:lnTo>
                <a:lnTo>
                  <a:pt x="443" y="1804"/>
                </a:lnTo>
                <a:lnTo>
                  <a:pt x="415" y="1842"/>
                </a:lnTo>
                <a:lnTo>
                  <a:pt x="384" y="1878"/>
                </a:lnTo>
                <a:lnTo>
                  <a:pt x="354" y="1912"/>
                </a:lnTo>
                <a:lnTo>
                  <a:pt x="324" y="1945"/>
                </a:lnTo>
                <a:lnTo>
                  <a:pt x="295" y="1977"/>
                </a:lnTo>
                <a:lnTo>
                  <a:pt x="265" y="200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80"/>
          <p:cNvSpPr/>
          <p:nvPr/>
        </p:nvSpPr>
        <p:spPr>
          <a:xfrm>
            <a:off x="6929280" y="3537000"/>
            <a:ext cx="627120" cy="987480"/>
          </a:xfrm>
          <a:custGeom>
            <a:avLst/>
            <a:gdLst/>
            <a:ahLst/>
            <a:rect l="l" t="t" r="r" b="b"/>
            <a:pathLst>
              <a:path w="1186" h="1868">
                <a:moveTo>
                  <a:pt x="885" y="1079"/>
                </a:moveTo>
                <a:lnTo>
                  <a:pt x="903" y="1110"/>
                </a:lnTo>
                <a:lnTo>
                  <a:pt x="920" y="1140"/>
                </a:lnTo>
                <a:lnTo>
                  <a:pt x="936" y="1170"/>
                </a:lnTo>
                <a:lnTo>
                  <a:pt x="953" y="1199"/>
                </a:lnTo>
                <a:lnTo>
                  <a:pt x="969" y="1226"/>
                </a:lnTo>
                <a:lnTo>
                  <a:pt x="983" y="1254"/>
                </a:lnTo>
                <a:lnTo>
                  <a:pt x="998" y="1280"/>
                </a:lnTo>
                <a:lnTo>
                  <a:pt x="1012" y="1305"/>
                </a:lnTo>
                <a:lnTo>
                  <a:pt x="1027" y="1330"/>
                </a:lnTo>
                <a:lnTo>
                  <a:pt x="1039" y="1354"/>
                </a:lnTo>
                <a:lnTo>
                  <a:pt x="1052" y="1377"/>
                </a:lnTo>
                <a:lnTo>
                  <a:pt x="1064" y="1399"/>
                </a:lnTo>
                <a:lnTo>
                  <a:pt x="1075" y="1421"/>
                </a:lnTo>
                <a:lnTo>
                  <a:pt x="1087" y="1441"/>
                </a:lnTo>
                <a:lnTo>
                  <a:pt x="1097" y="1461"/>
                </a:lnTo>
                <a:lnTo>
                  <a:pt x="1107" y="1480"/>
                </a:lnTo>
                <a:lnTo>
                  <a:pt x="1116" y="1498"/>
                </a:lnTo>
                <a:lnTo>
                  <a:pt x="1124" y="1516"/>
                </a:lnTo>
                <a:lnTo>
                  <a:pt x="1133" y="1533"/>
                </a:lnTo>
                <a:lnTo>
                  <a:pt x="1140" y="1549"/>
                </a:lnTo>
                <a:lnTo>
                  <a:pt x="1147" y="1563"/>
                </a:lnTo>
                <a:lnTo>
                  <a:pt x="1155" y="1578"/>
                </a:lnTo>
                <a:lnTo>
                  <a:pt x="1160" y="1592"/>
                </a:lnTo>
                <a:lnTo>
                  <a:pt x="1166" y="1605"/>
                </a:lnTo>
                <a:lnTo>
                  <a:pt x="1171" y="1616"/>
                </a:lnTo>
                <a:lnTo>
                  <a:pt x="1175" y="1628"/>
                </a:lnTo>
                <a:lnTo>
                  <a:pt x="1178" y="1638"/>
                </a:lnTo>
                <a:lnTo>
                  <a:pt x="1181" y="1648"/>
                </a:lnTo>
                <a:lnTo>
                  <a:pt x="1183" y="1657"/>
                </a:lnTo>
                <a:lnTo>
                  <a:pt x="1185" y="1665"/>
                </a:lnTo>
                <a:lnTo>
                  <a:pt x="1185" y="1674"/>
                </a:lnTo>
                <a:lnTo>
                  <a:pt x="1186" y="1681"/>
                </a:lnTo>
                <a:lnTo>
                  <a:pt x="1185" y="1697"/>
                </a:lnTo>
                <a:lnTo>
                  <a:pt x="1185" y="1711"/>
                </a:lnTo>
                <a:lnTo>
                  <a:pt x="1183" y="1726"/>
                </a:lnTo>
                <a:lnTo>
                  <a:pt x="1182" y="1740"/>
                </a:lnTo>
                <a:lnTo>
                  <a:pt x="1181" y="1753"/>
                </a:lnTo>
                <a:lnTo>
                  <a:pt x="1178" y="1765"/>
                </a:lnTo>
                <a:lnTo>
                  <a:pt x="1175" y="1776"/>
                </a:lnTo>
                <a:lnTo>
                  <a:pt x="1172" y="1786"/>
                </a:lnTo>
                <a:lnTo>
                  <a:pt x="1169" y="1796"/>
                </a:lnTo>
                <a:lnTo>
                  <a:pt x="1165" y="1805"/>
                </a:lnTo>
                <a:lnTo>
                  <a:pt x="1160" y="1812"/>
                </a:lnTo>
                <a:lnTo>
                  <a:pt x="1156" y="1819"/>
                </a:lnTo>
                <a:lnTo>
                  <a:pt x="1150" y="1825"/>
                </a:lnTo>
                <a:lnTo>
                  <a:pt x="1145" y="1831"/>
                </a:lnTo>
                <a:lnTo>
                  <a:pt x="1139" y="1835"/>
                </a:lnTo>
                <a:lnTo>
                  <a:pt x="1133" y="1840"/>
                </a:lnTo>
                <a:lnTo>
                  <a:pt x="1126" y="1845"/>
                </a:lnTo>
                <a:lnTo>
                  <a:pt x="1120" y="1851"/>
                </a:lnTo>
                <a:lnTo>
                  <a:pt x="1114" y="1855"/>
                </a:lnTo>
                <a:lnTo>
                  <a:pt x="1109" y="1860"/>
                </a:lnTo>
                <a:lnTo>
                  <a:pt x="1104" y="1863"/>
                </a:lnTo>
                <a:lnTo>
                  <a:pt x="1099" y="1865"/>
                </a:lnTo>
                <a:lnTo>
                  <a:pt x="1094" y="1867"/>
                </a:lnTo>
                <a:lnTo>
                  <a:pt x="1090" y="1868"/>
                </a:lnTo>
                <a:lnTo>
                  <a:pt x="1087" y="1868"/>
                </a:lnTo>
                <a:lnTo>
                  <a:pt x="1083" y="1868"/>
                </a:lnTo>
                <a:lnTo>
                  <a:pt x="1078" y="1868"/>
                </a:lnTo>
                <a:lnTo>
                  <a:pt x="1075" y="1867"/>
                </a:lnTo>
                <a:lnTo>
                  <a:pt x="1071" y="1865"/>
                </a:lnTo>
                <a:lnTo>
                  <a:pt x="1068" y="1863"/>
                </a:lnTo>
                <a:lnTo>
                  <a:pt x="1065" y="1861"/>
                </a:lnTo>
                <a:lnTo>
                  <a:pt x="1063" y="1858"/>
                </a:lnTo>
                <a:lnTo>
                  <a:pt x="1060" y="1855"/>
                </a:lnTo>
                <a:lnTo>
                  <a:pt x="1057" y="1853"/>
                </a:lnTo>
                <a:lnTo>
                  <a:pt x="1054" y="1848"/>
                </a:lnTo>
                <a:lnTo>
                  <a:pt x="1051" y="1844"/>
                </a:lnTo>
                <a:lnTo>
                  <a:pt x="1047" y="1838"/>
                </a:lnTo>
                <a:lnTo>
                  <a:pt x="1042" y="1831"/>
                </a:lnTo>
                <a:lnTo>
                  <a:pt x="1037" y="1822"/>
                </a:lnTo>
                <a:lnTo>
                  <a:pt x="1032" y="1814"/>
                </a:lnTo>
                <a:lnTo>
                  <a:pt x="1025" y="1805"/>
                </a:lnTo>
                <a:lnTo>
                  <a:pt x="1019" y="1793"/>
                </a:lnTo>
                <a:lnTo>
                  <a:pt x="1012" y="1782"/>
                </a:lnTo>
                <a:lnTo>
                  <a:pt x="1005" y="1769"/>
                </a:lnTo>
                <a:lnTo>
                  <a:pt x="996" y="1756"/>
                </a:lnTo>
                <a:lnTo>
                  <a:pt x="988" y="1742"/>
                </a:lnTo>
                <a:lnTo>
                  <a:pt x="979" y="1726"/>
                </a:lnTo>
                <a:lnTo>
                  <a:pt x="970" y="1710"/>
                </a:lnTo>
                <a:lnTo>
                  <a:pt x="960" y="1693"/>
                </a:lnTo>
                <a:lnTo>
                  <a:pt x="950" y="1674"/>
                </a:lnTo>
                <a:lnTo>
                  <a:pt x="939" y="1654"/>
                </a:lnTo>
                <a:lnTo>
                  <a:pt x="929" y="1634"/>
                </a:lnTo>
                <a:lnTo>
                  <a:pt x="916" y="1612"/>
                </a:lnTo>
                <a:lnTo>
                  <a:pt x="904" y="1591"/>
                </a:lnTo>
                <a:lnTo>
                  <a:pt x="891" y="1566"/>
                </a:lnTo>
                <a:lnTo>
                  <a:pt x="878" y="1542"/>
                </a:lnTo>
                <a:lnTo>
                  <a:pt x="865" y="1517"/>
                </a:lnTo>
                <a:lnTo>
                  <a:pt x="852" y="1490"/>
                </a:lnTo>
                <a:lnTo>
                  <a:pt x="838" y="1462"/>
                </a:lnTo>
                <a:lnTo>
                  <a:pt x="824" y="1434"/>
                </a:lnTo>
                <a:lnTo>
                  <a:pt x="808" y="1405"/>
                </a:lnTo>
                <a:lnTo>
                  <a:pt x="793" y="1373"/>
                </a:lnTo>
                <a:lnTo>
                  <a:pt x="777" y="1341"/>
                </a:lnTo>
                <a:lnTo>
                  <a:pt x="762" y="1310"/>
                </a:lnTo>
                <a:lnTo>
                  <a:pt x="726" y="1246"/>
                </a:lnTo>
                <a:lnTo>
                  <a:pt x="690" y="1185"/>
                </a:lnTo>
                <a:lnTo>
                  <a:pt x="657" y="1124"/>
                </a:lnTo>
                <a:lnTo>
                  <a:pt x="622" y="1064"/>
                </a:lnTo>
                <a:lnTo>
                  <a:pt x="589" y="1005"/>
                </a:lnTo>
                <a:lnTo>
                  <a:pt x="556" y="947"/>
                </a:lnTo>
                <a:lnTo>
                  <a:pt x="523" y="891"/>
                </a:lnTo>
                <a:lnTo>
                  <a:pt x="491" y="836"/>
                </a:lnTo>
                <a:lnTo>
                  <a:pt x="459" y="781"/>
                </a:lnTo>
                <a:lnTo>
                  <a:pt x="429" y="730"/>
                </a:lnTo>
                <a:lnTo>
                  <a:pt x="397" y="678"/>
                </a:lnTo>
                <a:lnTo>
                  <a:pt x="367" y="627"/>
                </a:lnTo>
                <a:lnTo>
                  <a:pt x="351" y="603"/>
                </a:lnTo>
                <a:lnTo>
                  <a:pt x="337" y="580"/>
                </a:lnTo>
                <a:lnTo>
                  <a:pt x="323" y="555"/>
                </a:lnTo>
                <a:lnTo>
                  <a:pt x="307" y="532"/>
                </a:lnTo>
                <a:lnTo>
                  <a:pt x="292" y="509"/>
                </a:lnTo>
                <a:lnTo>
                  <a:pt x="278" y="486"/>
                </a:lnTo>
                <a:lnTo>
                  <a:pt x="262" y="465"/>
                </a:lnTo>
                <a:lnTo>
                  <a:pt x="248" y="443"/>
                </a:lnTo>
                <a:lnTo>
                  <a:pt x="233" y="422"/>
                </a:lnTo>
                <a:lnTo>
                  <a:pt x="219" y="400"/>
                </a:lnTo>
                <a:lnTo>
                  <a:pt x="206" y="380"/>
                </a:lnTo>
                <a:lnTo>
                  <a:pt x="192" y="360"/>
                </a:lnTo>
                <a:lnTo>
                  <a:pt x="179" y="341"/>
                </a:lnTo>
                <a:lnTo>
                  <a:pt x="167" y="322"/>
                </a:lnTo>
                <a:lnTo>
                  <a:pt x="154" y="303"/>
                </a:lnTo>
                <a:lnTo>
                  <a:pt x="143" y="286"/>
                </a:lnTo>
                <a:lnTo>
                  <a:pt x="131" y="269"/>
                </a:lnTo>
                <a:lnTo>
                  <a:pt x="121" y="253"/>
                </a:lnTo>
                <a:lnTo>
                  <a:pt x="111" y="237"/>
                </a:lnTo>
                <a:lnTo>
                  <a:pt x="101" y="221"/>
                </a:lnTo>
                <a:lnTo>
                  <a:pt x="91" y="207"/>
                </a:lnTo>
                <a:lnTo>
                  <a:pt x="82" y="193"/>
                </a:lnTo>
                <a:lnTo>
                  <a:pt x="74" y="178"/>
                </a:lnTo>
                <a:lnTo>
                  <a:pt x="65" y="165"/>
                </a:lnTo>
                <a:lnTo>
                  <a:pt x="58" y="152"/>
                </a:lnTo>
                <a:lnTo>
                  <a:pt x="50" y="141"/>
                </a:lnTo>
                <a:lnTo>
                  <a:pt x="43" y="129"/>
                </a:lnTo>
                <a:lnTo>
                  <a:pt x="38" y="119"/>
                </a:lnTo>
                <a:lnTo>
                  <a:pt x="32" y="109"/>
                </a:lnTo>
                <a:lnTo>
                  <a:pt x="26" y="99"/>
                </a:lnTo>
                <a:lnTo>
                  <a:pt x="22" y="90"/>
                </a:lnTo>
                <a:lnTo>
                  <a:pt x="17" y="82"/>
                </a:lnTo>
                <a:lnTo>
                  <a:pt x="13" y="73"/>
                </a:lnTo>
                <a:lnTo>
                  <a:pt x="10" y="66"/>
                </a:lnTo>
                <a:lnTo>
                  <a:pt x="7" y="59"/>
                </a:lnTo>
                <a:lnTo>
                  <a:pt x="4" y="53"/>
                </a:lnTo>
                <a:lnTo>
                  <a:pt x="3" y="47"/>
                </a:lnTo>
                <a:lnTo>
                  <a:pt x="2" y="43"/>
                </a:lnTo>
                <a:lnTo>
                  <a:pt x="0" y="39"/>
                </a:lnTo>
                <a:lnTo>
                  <a:pt x="0" y="36"/>
                </a:lnTo>
                <a:lnTo>
                  <a:pt x="0" y="31"/>
                </a:lnTo>
                <a:lnTo>
                  <a:pt x="2" y="28"/>
                </a:lnTo>
                <a:lnTo>
                  <a:pt x="2" y="26"/>
                </a:lnTo>
                <a:lnTo>
                  <a:pt x="3" y="23"/>
                </a:lnTo>
                <a:lnTo>
                  <a:pt x="7" y="16"/>
                </a:lnTo>
                <a:lnTo>
                  <a:pt x="12" y="11"/>
                </a:lnTo>
                <a:lnTo>
                  <a:pt x="16" y="7"/>
                </a:lnTo>
                <a:lnTo>
                  <a:pt x="23" y="3"/>
                </a:lnTo>
                <a:lnTo>
                  <a:pt x="26" y="1"/>
                </a:lnTo>
                <a:lnTo>
                  <a:pt x="29" y="1"/>
                </a:lnTo>
                <a:lnTo>
                  <a:pt x="32" y="0"/>
                </a:lnTo>
                <a:lnTo>
                  <a:pt x="36" y="0"/>
                </a:lnTo>
                <a:lnTo>
                  <a:pt x="38" y="0"/>
                </a:lnTo>
                <a:lnTo>
                  <a:pt x="39" y="1"/>
                </a:lnTo>
                <a:lnTo>
                  <a:pt x="42" y="3"/>
                </a:lnTo>
                <a:lnTo>
                  <a:pt x="46" y="4"/>
                </a:lnTo>
                <a:lnTo>
                  <a:pt x="49" y="7"/>
                </a:lnTo>
                <a:lnTo>
                  <a:pt x="53" y="10"/>
                </a:lnTo>
                <a:lnTo>
                  <a:pt x="58" y="13"/>
                </a:lnTo>
                <a:lnTo>
                  <a:pt x="62" y="17"/>
                </a:lnTo>
                <a:lnTo>
                  <a:pt x="68" y="21"/>
                </a:lnTo>
                <a:lnTo>
                  <a:pt x="74" y="26"/>
                </a:lnTo>
                <a:lnTo>
                  <a:pt x="81" y="31"/>
                </a:lnTo>
                <a:lnTo>
                  <a:pt x="86" y="37"/>
                </a:lnTo>
                <a:lnTo>
                  <a:pt x="94" y="44"/>
                </a:lnTo>
                <a:lnTo>
                  <a:pt x="102" y="52"/>
                </a:lnTo>
                <a:lnTo>
                  <a:pt x="110" y="59"/>
                </a:lnTo>
                <a:lnTo>
                  <a:pt x="118" y="67"/>
                </a:lnTo>
                <a:lnTo>
                  <a:pt x="127" y="76"/>
                </a:lnTo>
                <a:lnTo>
                  <a:pt x="137" y="86"/>
                </a:lnTo>
                <a:lnTo>
                  <a:pt x="147" y="96"/>
                </a:lnTo>
                <a:lnTo>
                  <a:pt x="157" y="108"/>
                </a:lnTo>
                <a:lnTo>
                  <a:pt x="169" y="118"/>
                </a:lnTo>
                <a:lnTo>
                  <a:pt x="180" y="131"/>
                </a:lnTo>
                <a:lnTo>
                  <a:pt x="192" y="142"/>
                </a:lnTo>
                <a:lnTo>
                  <a:pt x="203" y="155"/>
                </a:lnTo>
                <a:lnTo>
                  <a:pt x="216" y="170"/>
                </a:lnTo>
                <a:lnTo>
                  <a:pt x="229" y="184"/>
                </a:lnTo>
                <a:lnTo>
                  <a:pt x="243" y="198"/>
                </a:lnTo>
                <a:lnTo>
                  <a:pt x="258" y="214"/>
                </a:lnTo>
                <a:lnTo>
                  <a:pt x="272" y="230"/>
                </a:lnTo>
                <a:lnTo>
                  <a:pt x="287" y="247"/>
                </a:lnTo>
                <a:lnTo>
                  <a:pt x="302" y="265"/>
                </a:lnTo>
                <a:lnTo>
                  <a:pt x="320" y="283"/>
                </a:lnTo>
                <a:lnTo>
                  <a:pt x="336" y="301"/>
                </a:lnTo>
                <a:lnTo>
                  <a:pt x="351" y="321"/>
                </a:lnTo>
                <a:lnTo>
                  <a:pt x="369" y="339"/>
                </a:lnTo>
                <a:lnTo>
                  <a:pt x="386" y="360"/>
                </a:lnTo>
                <a:lnTo>
                  <a:pt x="403" y="380"/>
                </a:lnTo>
                <a:lnTo>
                  <a:pt x="420" y="400"/>
                </a:lnTo>
                <a:lnTo>
                  <a:pt x="436" y="422"/>
                </a:lnTo>
                <a:lnTo>
                  <a:pt x="454" y="443"/>
                </a:lnTo>
                <a:lnTo>
                  <a:pt x="472" y="465"/>
                </a:lnTo>
                <a:lnTo>
                  <a:pt x="490" y="486"/>
                </a:lnTo>
                <a:lnTo>
                  <a:pt x="507" y="509"/>
                </a:lnTo>
                <a:lnTo>
                  <a:pt x="524" y="532"/>
                </a:lnTo>
                <a:lnTo>
                  <a:pt x="543" y="555"/>
                </a:lnTo>
                <a:lnTo>
                  <a:pt x="560" y="578"/>
                </a:lnTo>
                <a:lnTo>
                  <a:pt x="577" y="603"/>
                </a:lnTo>
                <a:lnTo>
                  <a:pt x="596" y="627"/>
                </a:lnTo>
                <a:lnTo>
                  <a:pt x="613" y="653"/>
                </a:lnTo>
                <a:lnTo>
                  <a:pt x="632" y="678"/>
                </a:lnTo>
                <a:lnTo>
                  <a:pt x="649" y="704"/>
                </a:lnTo>
                <a:lnTo>
                  <a:pt x="668" y="730"/>
                </a:lnTo>
                <a:lnTo>
                  <a:pt x="685" y="757"/>
                </a:lnTo>
                <a:lnTo>
                  <a:pt x="704" y="784"/>
                </a:lnTo>
                <a:lnTo>
                  <a:pt x="721" y="812"/>
                </a:lnTo>
                <a:lnTo>
                  <a:pt x="740" y="839"/>
                </a:lnTo>
                <a:lnTo>
                  <a:pt x="759" y="868"/>
                </a:lnTo>
                <a:lnTo>
                  <a:pt x="776" y="897"/>
                </a:lnTo>
                <a:lnTo>
                  <a:pt x="795" y="925"/>
                </a:lnTo>
                <a:lnTo>
                  <a:pt x="812" y="956"/>
                </a:lnTo>
                <a:lnTo>
                  <a:pt x="831" y="986"/>
                </a:lnTo>
                <a:lnTo>
                  <a:pt x="849" y="1016"/>
                </a:lnTo>
                <a:lnTo>
                  <a:pt x="867" y="1048"/>
                </a:lnTo>
                <a:lnTo>
                  <a:pt x="885" y="10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81"/>
          <p:cNvSpPr/>
          <p:nvPr/>
        </p:nvSpPr>
        <p:spPr>
          <a:xfrm>
            <a:off x="6637320" y="3262320"/>
            <a:ext cx="1163520" cy="1677960"/>
          </a:xfrm>
          <a:custGeom>
            <a:avLst/>
            <a:gdLst/>
            <a:ahLst/>
            <a:rect l="l" t="t" r="r" b="b"/>
            <a:pathLst>
              <a:path w="2199" h="3170">
                <a:moveTo>
                  <a:pt x="235" y="3082"/>
                </a:moveTo>
                <a:lnTo>
                  <a:pt x="225" y="3092"/>
                </a:lnTo>
                <a:lnTo>
                  <a:pt x="216" y="3101"/>
                </a:lnTo>
                <a:lnTo>
                  <a:pt x="208" y="3109"/>
                </a:lnTo>
                <a:lnTo>
                  <a:pt x="199" y="3118"/>
                </a:lnTo>
                <a:lnTo>
                  <a:pt x="190" y="3127"/>
                </a:lnTo>
                <a:lnTo>
                  <a:pt x="183" y="3134"/>
                </a:lnTo>
                <a:lnTo>
                  <a:pt x="176" y="3140"/>
                </a:lnTo>
                <a:lnTo>
                  <a:pt x="169" y="3145"/>
                </a:lnTo>
                <a:lnTo>
                  <a:pt x="163" y="3151"/>
                </a:lnTo>
                <a:lnTo>
                  <a:pt x="156" y="3156"/>
                </a:lnTo>
                <a:lnTo>
                  <a:pt x="150" y="3160"/>
                </a:lnTo>
                <a:lnTo>
                  <a:pt x="146" y="3164"/>
                </a:lnTo>
                <a:lnTo>
                  <a:pt x="140" y="3167"/>
                </a:lnTo>
                <a:lnTo>
                  <a:pt x="136" y="3169"/>
                </a:lnTo>
                <a:lnTo>
                  <a:pt x="133" y="3170"/>
                </a:lnTo>
                <a:lnTo>
                  <a:pt x="128" y="3170"/>
                </a:lnTo>
                <a:lnTo>
                  <a:pt x="126" y="3167"/>
                </a:lnTo>
                <a:lnTo>
                  <a:pt x="121" y="3163"/>
                </a:lnTo>
                <a:lnTo>
                  <a:pt x="117" y="3158"/>
                </a:lnTo>
                <a:lnTo>
                  <a:pt x="113" y="3154"/>
                </a:lnTo>
                <a:lnTo>
                  <a:pt x="108" y="3148"/>
                </a:lnTo>
                <a:lnTo>
                  <a:pt x="103" y="3143"/>
                </a:lnTo>
                <a:lnTo>
                  <a:pt x="98" y="3137"/>
                </a:lnTo>
                <a:lnTo>
                  <a:pt x="94" y="3131"/>
                </a:lnTo>
                <a:lnTo>
                  <a:pt x="88" y="3124"/>
                </a:lnTo>
                <a:lnTo>
                  <a:pt x="84" y="3117"/>
                </a:lnTo>
                <a:lnTo>
                  <a:pt x="78" y="3109"/>
                </a:lnTo>
                <a:lnTo>
                  <a:pt x="74" y="3101"/>
                </a:lnTo>
                <a:lnTo>
                  <a:pt x="69" y="3092"/>
                </a:lnTo>
                <a:lnTo>
                  <a:pt x="65" y="3084"/>
                </a:lnTo>
                <a:lnTo>
                  <a:pt x="61" y="3074"/>
                </a:lnTo>
                <a:lnTo>
                  <a:pt x="58" y="3065"/>
                </a:lnTo>
                <a:lnTo>
                  <a:pt x="52" y="3055"/>
                </a:lnTo>
                <a:lnTo>
                  <a:pt x="46" y="3045"/>
                </a:lnTo>
                <a:lnTo>
                  <a:pt x="41" y="3035"/>
                </a:lnTo>
                <a:lnTo>
                  <a:pt x="35" y="3025"/>
                </a:lnTo>
                <a:lnTo>
                  <a:pt x="31" y="3014"/>
                </a:lnTo>
                <a:lnTo>
                  <a:pt x="26" y="3006"/>
                </a:lnTo>
                <a:lnTo>
                  <a:pt x="22" y="2996"/>
                </a:lnTo>
                <a:lnTo>
                  <a:pt x="19" y="2987"/>
                </a:lnTo>
                <a:lnTo>
                  <a:pt x="15" y="2978"/>
                </a:lnTo>
                <a:lnTo>
                  <a:pt x="12" y="2968"/>
                </a:lnTo>
                <a:lnTo>
                  <a:pt x="10" y="2960"/>
                </a:lnTo>
                <a:lnTo>
                  <a:pt x="7" y="2953"/>
                </a:lnTo>
                <a:lnTo>
                  <a:pt x="6" y="2944"/>
                </a:lnTo>
                <a:lnTo>
                  <a:pt x="6" y="2937"/>
                </a:lnTo>
                <a:lnTo>
                  <a:pt x="5" y="2930"/>
                </a:lnTo>
                <a:lnTo>
                  <a:pt x="5" y="2922"/>
                </a:lnTo>
                <a:lnTo>
                  <a:pt x="2" y="2918"/>
                </a:lnTo>
                <a:lnTo>
                  <a:pt x="0" y="2914"/>
                </a:lnTo>
                <a:lnTo>
                  <a:pt x="0" y="2909"/>
                </a:lnTo>
                <a:lnTo>
                  <a:pt x="2" y="2904"/>
                </a:lnTo>
                <a:lnTo>
                  <a:pt x="3" y="2896"/>
                </a:lnTo>
                <a:lnTo>
                  <a:pt x="6" y="2889"/>
                </a:lnTo>
                <a:lnTo>
                  <a:pt x="9" y="2881"/>
                </a:lnTo>
                <a:lnTo>
                  <a:pt x="15" y="2872"/>
                </a:lnTo>
                <a:lnTo>
                  <a:pt x="19" y="2863"/>
                </a:lnTo>
                <a:lnTo>
                  <a:pt x="26" y="2853"/>
                </a:lnTo>
                <a:lnTo>
                  <a:pt x="32" y="2842"/>
                </a:lnTo>
                <a:lnTo>
                  <a:pt x="41" y="2832"/>
                </a:lnTo>
                <a:lnTo>
                  <a:pt x="48" y="2819"/>
                </a:lnTo>
                <a:lnTo>
                  <a:pt x="56" y="2807"/>
                </a:lnTo>
                <a:lnTo>
                  <a:pt x="67" y="2794"/>
                </a:lnTo>
                <a:lnTo>
                  <a:pt x="77" y="2781"/>
                </a:lnTo>
                <a:lnTo>
                  <a:pt x="81" y="2775"/>
                </a:lnTo>
                <a:lnTo>
                  <a:pt x="85" y="2767"/>
                </a:lnTo>
                <a:lnTo>
                  <a:pt x="90" y="2757"/>
                </a:lnTo>
                <a:lnTo>
                  <a:pt x="94" y="2744"/>
                </a:lnTo>
                <a:lnTo>
                  <a:pt x="98" y="2729"/>
                </a:lnTo>
                <a:lnTo>
                  <a:pt x="103" y="2712"/>
                </a:lnTo>
                <a:lnTo>
                  <a:pt x="105" y="2693"/>
                </a:lnTo>
                <a:lnTo>
                  <a:pt x="110" y="2672"/>
                </a:lnTo>
                <a:lnTo>
                  <a:pt x="113" y="2649"/>
                </a:lnTo>
                <a:lnTo>
                  <a:pt x="115" y="2623"/>
                </a:lnTo>
                <a:lnTo>
                  <a:pt x="120" y="2596"/>
                </a:lnTo>
                <a:lnTo>
                  <a:pt x="123" y="2565"/>
                </a:lnTo>
                <a:lnTo>
                  <a:pt x="126" y="2534"/>
                </a:lnTo>
                <a:lnTo>
                  <a:pt x="128" y="2499"/>
                </a:lnTo>
                <a:lnTo>
                  <a:pt x="131" y="2463"/>
                </a:lnTo>
                <a:lnTo>
                  <a:pt x="133" y="2424"/>
                </a:lnTo>
                <a:lnTo>
                  <a:pt x="136" y="2384"/>
                </a:lnTo>
                <a:lnTo>
                  <a:pt x="138" y="2342"/>
                </a:lnTo>
                <a:lnTo>
                  <a:pt x="140" y="2298"/>
                </a:lnTo>
                <a:lnTo>
                  <a:pt x="143" y="2250"/>
                </a:lnTo>
                <a:lnTo>
                  <a:pt x="144" y="2201"/>
                </a:lnTo>
                <a:lnTo>
                  <a:pt x="147" y="2151"/>
                </a:lnTo>
                <a:lnTo>
                  <a:pt x="149" y="2097"/>
                </a:lnTo>
                <a:lnTo>
                  <a:pt x="150" y="2043"/>
                </a:lnTo>
                <a:lnTo>
                  <a:pt x="153" y="1985"/>
                </a:lnTo>
                <a:lnTo>
                  <a:pt x="154" y="1926"/>
                </a:lnTo>
                <a:lnTo>
                  <a:pt x="156" y="1864"/>
                </a:lnTo>
                <a:lnTo>
                  <a:pt x="157" y="1801"/>
                </a:lnTo>
                <a:lnTo>
                  <a:pt x="159" y="1735"/>
                </a:lnTo>
                <a:lnTo>
                  <a:pt x="162" y="1667"/>
                </a:lnTo>
                <a:lnTo>
                  <a:pt x="163" y="1596"/>
                </a:lnTo>
                <a:lnTo>
                  <a:pt x="164" y="1526"/>
                </a:lnTo>
                <a:lnTo>
                  <a:pt x="166" y="1454"/>
                </a:lnTo>
                <a:lnTo>
                  <a:pt x="167" y="1383"/>
                </a:lnTo>
                <a:lnTo>
                  <a:pt x="169" y="1316"/>
                </a:lnTo>
                <a:lnTo>
                  <a:pt x="169" y="1249"/>
                </a:lnTo>
                <a:lnTo>
                  <a:pt x="170" y="1185"/>
                </a:lnTo>
                <a:lnTo>
                  <a:pt x="170" y="1123"/>
                </a:lnTo>
                <a:lnTo>
                  <a:pt x="172" y="1062"/>
                </a:lnTo>
                <a:lnTo>
                  <a:pt x="172" y="1005"/>
                </a:lnTo>
                <a:lnTo>
                  <a:pt x="172" y="949"/>
                </a:lnTo>
                <a:lnTo>
                  <a:pt x="170" y="894"/>
                </a:lnTo>
                <a:lnTo>
                  <a:pt x="170" y="841"/>
                </a:lnTo>
                <a:lnTo>
                  <a:pt x="170" y="790"/>
                </a:lnTo>
                <a:lnTo>
                  <a:pt x="169" y="743"/>
                </a:lnTo>
                <a:lnTo>
                  <a:pt x="169" y="695"/>
                </a:lnTo>
                <a:lnTo>
                  <a:pt x="167" y="651"/>
                </a:lnTo>
                <a:lnTo>
                  <a:pt x="166" y="607"/>
                </a:lnTo>
                <a:lnTo>
                  <a:pt x="164" y="567"/>
                </a:lnTo>
                <a:lnTo>
                  <a:pt x="163" y="528"/>
                </a:lnTo>
                <a:lnTo>
                  <a:pt x="162" y="491"/>
                </a:lnTo>
                <a:lnTo>
                  <a:pt x="160" y="456"/>
                </a:lnTo>
                <a:lnTo>
                  <a:pt x="159" y="422"/>
                </a:lnTo>
                <a:lnTo>
                  <a:pt x="156" y="391"/>
                </a:lnTo>
                <a:lnTo>
                  <a:pt x="154" y="361"/>
                </a:lnTo>
                <a:lnTo>
                  <a:pt x="151" y="334"/>
                </a:lnTo>
                <a:lnTo>
                  <a:pt x="149" y="308"/>
                </a:lnTo>
                <a:lnTo>
                  <a:pt x="146" y="285"/>
                </a:lnTo>
                <a:lnTo>
                  <a:pt x="144" y="262"/>
                </a:lnTo>
                <a:lnTo>
                  <a:pt x="141" y="242"/>
                </a:lnTo>
                <a:lnTo>
                  <a:pt x="138" y="224"/>
                </a:lnTo>
                <a:lnTo>
                  <a:pt x="134" y="207"/>
                </a:lnTo>
                <a:lnTo>
                  <a:pt x="131" y="193"/>
                </a:lnTo>
                <a:lnTo>
                  <a:pt x="128" y="181"/>
                </a:lnTo>
                <a:lnTo>
                  <a:pt x="120" y="161"/>
                </a:lnTo>
                <a:lnTo>
                  <a:pt x="111" y="144"/>
                </a:lnTo>
                <a:lnTo>
                  <a:pt x="104" y="127"/>
                </a:lnTo>
                <a:lnTo>
                  <a:pt x="98" y="111"/>
                </a:lnTo>
                <a:lnTo>
                  <a:pt x="94" y="96"/>
                </a:lnTo>
                <a:lnTo>
                  <a:pt x="90" y="82"/>
                </a:lnTo>
                <a:lnTo>
                  <a:pt x="87" y="70"/>
                </a:lnTo>
                <a:lnTo>
                  <a:pt x="85" y="59"/>
                </a:lnTo>
                <a:lnTo>
                  <a:pt x="84" y="49"/>
                </a:lnTo>
                <a:lnTo>
                  <a:pt x="84" y="40"/>
                </a:lnTo>
                <a:lnTo>
                  <a:pt x="84" y="32"/>
                </a:lnTo>
                <a:lnTo>
                  <a:pt x="84" y="24"/>
                </a:lnTo>
                <a:lnTo>
                  <a:pt x="85" y="17"/>
                </a:lnTo>
                <a:lnTo>
                  <a:pt x="88" y="13"/>
                </a:lnTo>
                <a:lnTo>
                  <a:pt x="90" y="9"/>
                </a:lnTo>
                <a:lnTo>
                  <a:pt x="94" y="4"/>
                </a:lnTo>
                <a:lnTo>
                  <a:pt x="95" y="3"/>
                </a:lnTo>
                <a:lnTo>
                  <a:pt x="97" y="1"/>
                </a:lnTo>
                <a:lnTo>
                  <a:pt x="100" y="0"/>
                </a:lnTo>
                <a:lnTo>
                  <a:pt x="104" y="0"/>
                </a:lnTo>
                <a:lnTo>
                  <a:pt x="107" y="0"/>
                </a:lnTo>
                <a:lnTo>
                  <a:pt x="111" y="0"/>
                </a:lnTo>
                <a:lnTo>
                  <a:pt x="115" y="0"/>
                </a:lnTo>
                <a:lnTo>
                  <a:pt x="120" y="0"/>
                </a:lnTo>
                <a:lnTo>
                  <a:pt x="126" y="1"/>
                </a:lnTo>
                <a:lnTo>
                  <a:pt x="131" y="1"/>
                </a:lnTo>
                <a:lnTo>
                  <a:pt x="137" y="3"/>
                </a:lnTo>
                <a:lnTo>
                  <a:pt x="143" y="4"/>
                </a:lnTo>
                <a:lnTo>
                  <a:pt x="150" y="6"/>
                </a:lnTo>
                <a:lnTo>
                  <a:pt x="157" y="9"/>
                </a:lnTo>
                <a:lnTo>
                  <a:pt x="164" y="10"/>
                </a:lnTo>
                <a:lnTo>
                  <a:pt x="173" y="13"/>
                </a:lnTo>
                <a:lnTo>
                  <a:pt x="182" y="16"/>
                </a:lnTo>
                <a:lnTo>
                  <a:pt x="190" y="17"/>
                </a:lnTo>
                <a:lnTo>
                  <a:pt x="200" y="21"/>
                </a:lnTo>
                <a:lnTo>
                  <a:pt x="209" y="24"/>
                </a:lnTo>
                <a:lnTo>
                  <a:pt x="219" y="27"/>
                </a:lnTo>
                <a:lnTo>
                  <a:pt x="231" y="32"/>
                </a:lnTo>
                <a:lnTo>
                  <a:pt x="241" y="34"/>
                </a:lnTo>
                <a:lnTo>
                  <a:pt x="252" y="39"/>
                </a:lnTo>
                <a:lnTo>
                  <a:pt x="265" y="43"/>
                </a:lnTo>
                <a:lnTo>
                  <a:pt x="277" y="47"/>
                </a:lnTo>
                <a:lnTo>
                  <a:pt x="290" y="52"/>
                </a:lnTo>
                <a:lnTo>
                  <a:pt x="303" y="56"/>
                </a:lnTo>
                <a:lnTo>
                  <a:pt x="316" y="60"/>
                </a:lnTo>
                <a:lnTo>
                  <a:pt x="330" y="65"/>
                </a:lnTo>
                <a:lnTo>
                  <a:pt x="344" y="70"/>
                </a:lnTo>
                <a:lnTo>
                  <a:pt x="359" y="75"/>
                </a:lnTo>
                <a:lnTo>
                  <a:pt x="359" y="91"/>
                </a:lnTo>
                <a:lnTo>
                  <a:pt x="359" y="108"/>
                </a:lnTo>
                <a:lnTo>
                  <a:pt x="359" y="128"/>
                </a:lnTo>
                <a:lnTo>
                  <a:pt x="359" y="150"/>
                </a:lnTo>
                <a:lnTo>
                  <a:pt x="359" y="174"/>
                </a:lnTo>
                <a:lnTo>
                  <a:pt x="359" y="200"/>
                </a:lnTo>
                <a:lnTo>
                  <a:pt x="359" y="227"/>
                </a:lnTo>
                <a:lnTo>
                  <a:pt x="359" y="256"/>
                </a:lnTo>
                <a:lnTo>
                  <a:pt x="359" y="288"/>
                </a:lnTo>
                <a:lnTo>
                  <a:pt x="359" y="321"/>
                </a:lnTo>
                <a:lnTo>
                  <a:pt x="357" y="357"/>
                </a:lnTo>
                <a:lnTo>
                  <a:pt x="357" y="394"/>
                </a:lnTo>
                <a:lnTo>
                  <a:pt x="357" y="433"/>
                </a:lnTo>
                <a:lnTo>
                  <a:pt x="357" y="474"/>
                </a:lnTo>
                <a:lnTo>
                  <a:pt x="357" y="517"/>
                </a:lnTo>
                <a:lnTo>
                  <a:pt x="356" y="561"/>
                </a:lnTo>
                <a:lnTo>
                  <a:pt x="356" y="607"/>
                </a:lnTo>
                <a:lnTo>
                  <a:pt x="356" y="656"/>
                </a:lnTo>
                <a:lnTo>
                  <a:pt x="354" y="707"/>
                </a:lnTo>
                <a:lnTo>
                  <a:pt x="354" y="759"/>
                </a:lnTo>
                <a:lnTo>
                  <a:pt x="353" y="812"/>
                </a:lnTo>
                <a:lnTo>
                  <a:pt x="353" y="868"/>
                </a:lnTo>
                <a:lnTo>
                  <a:pt x="352" y="926"/>
                </a:lnTo>
                <a:lnTo>
                  <a:pt x="352" y="985"/>
                </a:lnTo>
                <a:lnTo>
                  <a:pt x="350" y="1046"/>
                </a:lnTo>
                <a:lnTo>
                  <a:pt x="349" y="1110"/>
                </a:lnTo>
                <a:lnTo>
                  <a:pt x="347" y="1175"/>
                </a:lnTo>
                <a:lnTo>
                  <a:pt x="347" y="1241"/>
                </a:lnTo>
                <a:lnTo>
                  <a:pt x="346" y="1310"/>
                </a:lnTo>
                <a:lnTo>
                  <a:pt x="344" y="1379"/>
                </a:lnTo>
                <a:lnTo>
                  <a:pt x="343" y="1451"/>
                </a:lnTo>
                <a:lnTo>
                  <a:pt x="341" y="1526"/>
                </a:lnTo>
                <a:lnTo>
                  <a:pt x="339" y="1599"/>
                </a:lnTo>
                <a:lnTo>
                  <a:pt x="337" y="1670"/>
                </a:lnTo>
                <a:lnTo>
                  <a:pt x="336" y="1739"/>
                </a:lnTo>
                <a:lnTo>
                  <a:pt x="336" y="1805"/>
                </a:lnTo>
                <a:lnTo>
                  <a:pt x="334" y="1870"/>
                </a:lnTo>
                <a:lnTo>
                  <a:pt x="333" y="1932"/>
                </a:lnTo>
                <a:lnTo>
                  <a:pt x="331" y="1992"/>
                </a:lnTo>
                <a:lnTo>
                  <a:pt x="331" y="2050"/>
                </a:lnTo>
                <a:lnTo>
                  <a:pt x="330" y="2105"/>
                </a:lnTo>
                <a:lnTo>
                  <a:pt x="330" y="2158"/>
                </a:lnTo>
                <a:lnTo>
                  <a:pt x="329" y="2208"/>
                </a:lnTo>
                <a:lnTo>
                  <a:pt x="329" y="2257"/>
                </a:lnTo>
                <a:lnTo>
                  <a:pt x="329" y="2303"/>
                </a:lnTo>
                <a:lnTo>
                  <a:pt x="329" y="2346"/>
                </a:lnTo>
                <a:lnTo>
                  <a:pt x="329" y="2388"/>
                </a:lnTo>
                <a:lnTo>
                  <a:pt x="329" y="2427"/>
                </a:lnTo>
                <a:lnTo>
                  <a:pt x="329" y="2465"/>
                </a:lnTo>
                <a:lnTo>
                  <a:pt x="329" y="2499"/>
                </a:lnTo>
                <a:lnTo>
                  <a:pt x="329" y="2532"/>
                </a:lnTo>
                <a:lnTo>
                  <a:pt x="329" y="2562"/>
                </a:lnTo>
                <a:lnTo>
                  <a:pt x="329" y="2590"/>
                </a:lnTo>
                <a:lnTo>
                  <a:pt x="330" y="2616"/>
                </a:lnTo>
                <a:lnTo>
                  <a:pt x="330" y="2639"/>
                </a:lnTo>
                <a:lnTo>
                  <a:pt x="331" y="2660"/>
                </a:lnTo>
                <a:lnTo>
                  <a:pt x="331" y="2679"/>
                </a:lnTo>
                <a:lnTo>
                  <a:pt x="333" y="2695"/>
                </a:lnTo>
                <a:lnTo>
                  <a:pt x="334" y="2709"/>
                </a:lnTo>
                <a:lnTo>
                  <a:pt x="336" y="2721"/>
                </a:lnTo>
                <a:lnTo>
                  <a:pt x="336" y="2731"/>
                </a:lnTo>
                <a:lnTo>
                  <a:pt x="337" y="2738"/>
                </a:lnTo>
                <a:lnTo>
                  <a:pt x="339" y="2744"/>
                </a:lnTo>
                <a:lnTo>
                  <a:pt x="341" y="2747"/>
                </a:lnTo>
                <a:lnTo>
                  <a:pt x="344" y="2750"/>
                </a:lnTo>
                <a:lnTo>
                  <a:pt x="350" y="2751"/>
                </a:lnTo>
                <a:lnTo>
                  <a:pt x="356" y="2754"/>
                </a:lnTo>
                <a:lnTo>
                  <a:pt x="365" y="2755"/>
                </a:lnTo>
                <a:lnTo>
                  <a:pt x="373" y="2757"/>
                </a:lnTo>
                <a:lnTo>
                  <a:pt x="385" y="2758"/>
                </a:lnTo>
                <a:lnTo>
                  <a:pt x="396" y="2760"/>
                </a:lnTo>
                <a:lnTo>
                  <a:pt x="402" y="2760"/>
                </a:lnTo>
                <a:lnTo>
                  <a:pt x="409" y="2760"/>
                </a:lnTo>
                <a:lnTo>
                  <a:pt x="416" y="2760"/>
                </a:lnTo>
                <a:lnTo>
                  <a:pt x="425" y="2760"/>
                </a:lnTo>
                <a:lnTo>
                  <a:pt x="432" y="2758"/>
                </a:lnTo>
                <a:lnTo>
                  <a:pt x="441" y="2758"/>
                </a:lnTo>
                <a:lnTo>
                  <a:pt x="449" y="2758"/>
                </a:lnTo>
                <a:lnTo>
                  <a:pt x="458" y="2757"/>
                </a:lnTo>
                <a:lnTo>
                  <a:pt x="468" y="2757"/>
                </a:lnTo>
                <a:lnTo>
                  <a:pt x="478" y="2755"/>
                </a:lnTo>
                <a:lnTo>
                  <a:pt x="488" y="2755"/>
                </a:lnTo>
                <a:lnTo>
                  <a:pt x="498" y="2754"/>
                </a:lnTo>
                <a:lnTo>
                  <a:pt x="510" y="2752"/>
                </a:lnTo>
                <a:lnTo>
                  <a:pt x="521" y="2752"/>
                </a:lnTo>
                <a:lnTo>
                  <a:pt x="533" y="2751"/>
                </a:lnTo>
                <a:lnTo>
                  <a:pt x="546" y="2750"/>
                </a:lnTo>
                <a:lnTo>
                  <a:pt x="557" y="2748"/>
                </a:lnTo>
                <a:lnTo>
                  <a:pt x="572" y="2747"/>
                </a:lnTo>
                <a:lnTo>
                  <a:pt x="585" y="2744"/>
                </a:lnTo>
                <a:lnTo>
                  <a:pt x="599" y="2742"/>
                </a:lnTo>
                <a:lnTo>
                  <a:pt x="614" y="2741"/>
                </a:lnTo>
                <a:lnTo>
                  <a:pt x="628" y="2740"/>
                </a:lnTo>
                <a:lnTo>
                  <a:pt x="644" y="2738"/>
                </a:lnTo>
                <a:lnTo>
                  <a:pt x="660" y="2735"/>
                </a:lnTo>
                <a:lnTo>
                  <a:pt x="677" y="2734"/>
                </a:lnTo>
                <a:lnTo>
                  <a:pt x="694" y="2732"/>
                </a:lnTo>
                <a:lnTo>
                  <a:pt x="711" y="2731"/>
                </a:lnTo>
                <a:lnTo>
                  <a:pt x="730" y="2729"/>
                </a:lnTo>
                <a:lnTo>
                  <a:pt x="749" y="2727"/>
                </a:lnTo>
                <a:lnTo>
                  <a:pt x="769" y="2725"/>
                </a:lnTo>
                <a:lnTo>
                  <a:pt x="788" y="2724"/>
                </a:lnTo>
                <a:lnTo>
                  <a:pt x="809" y="2721"/>
                </a:lnTo>
                <a:lnTo>
                  <a:pt x="830" y="2719"/>
                </a:lnTo>
                <a:lnTo>
                  <a:pt x="851" y="2718"/>
                </a:lnTo>
                <a:lnTo>
                  <a:pt x="874" y="2715"/>
                </a:lnTo>
                <a:lnTo>
                  <a:pt x="897" y="2714"/>
                </a:lnTo>
                <a:lnTo>
                  <a:pt x="920" y="2711"/>
                </a:lnTo>
                <a:lnTo>
                  <a:pt x="945" y="2709"/>
                </a:lnTo>
                <a:lnTo>
                  <a:pt x="969" y="2706"/>
                </a:lnTo>
                <a:lnTo>
                  <a:pt x="994" y="2704"/>
                </a:lnTo>
                <a:lnTo>
                  <a:pt x="1020" y="2702"/>
                </a:lnTo>
                <a:lnTo>
                  <a:pt x="1045" y="2699"/>
                </a:lnTo>
                <a:lnTo>
                  <a:pt x="1073" y="2696"/>
                </a:lnTo>
                <a:lnTo>
                  <a:pt x="1100" y="2693"/>
                </a:lnTo>
                <a:lnTo>
                  <a:pt x="1129" y="2691"/>
                </a:lnTo>
                <a:lnTo>
                  <a:pt x="1158" y="2688"/>
                </a:lnTo>
                <a:lnTo>
                  <a:pt x="1187" y="2685"/>
                </a:lnTo>
                <a:lnTo>
                  <a:pt x="1217" y="2682"/>
                </a:lnTo>
                <a:lnTo>
                  <a:pt x="1247" y="2678"/>
                </a:lnTo>
                <a:lnTo>
                  <a:pt x="1279" y="2675"/>
                </a:lnTo>
                <a:lnTo>
                  <a:pt x="1310" y="2673"/>
                </a:lnTo>
                <a:lnTo>
                  <a:pt x="1341" y="2672"/>
                </a:lnTo>
                <a:lnTo>
                  <a:pt x="1369" y="2670"/>
                </a:lnTo>
                <a:lnTo>
                  <a:pt x="1398" y="2668"/>
                </a:lnTo>
                <a:lnTo>
                  <a:pt x="1426" y="2666"/>
                </a:lnTo>
                <a:lnTo>
                  <a:pt x="1453" y="2665"/>
                </a:lnTo>
                <a:lnTo>
                  <a:pt x="1479" y="2663"/>
                </a:lnTo>
                <a:lnTo>
                  <a:pt x="1505" y="2662"/>
                </a:lnTo>
                <a:lnTo>
                  <a:pt x="1529" y="2660"/>
                </a:lnTo>
                <a:lnTo>
                  <a:pt x="1552" y="2659"/>
                </a:lnTo>
                <a:lnTo>
                  <a:pt x="1575" y="2657"/>
                </a:lnTo>
                <a:lnTo>
                  <a:pt x="1598" y="2656"/>
                </a:lnTo>
                <a:lnTo>
                  <a:pt x="1620" y="2655"/>
                </a:lnTo>
                <a:lnTo>
                  <a:pt x="1640" y="2653"/>
                </a:lnTo>
                <a:lnTo>
                  <a:pt x="1660" y="2652"/>
                </a:lnTo>
                <a:lnTo>
                  <a:pt x="1679" y="2650"/>
                </a:lnTo>
                <a:lnTo>
                  <a:pt x="1698" y="2649"/>
                </a:lnTo>
                <a:lnTo>
                  <a:pt x="1715" y="2647"/>
                </a:lnTo>
                <a:lnTo>
                  <a:pt x="1731" y="2647"/>
                </a:lnTo>
                <a:lnTo>
                  <a:pt x="1747" y="2646"/>
                </a:lnTo>
                <a:lnTo>
                  <a:pt x="1762" y="2644"/>
                </a:lnTo>
                <a:lnTo>
                  <a:pt x="1777" y="2644"/>
                </a:lnTo>
                <a:lnTo>
                  <a:pt x="1790" y="2643"/>
                </a:lnTo>
                <a:lnTo>
                  <a:pt x="1803" y="2643"/>
                </a:lnTo>
                <a:lnTo>
                  <a:pt x="1816" y="2642"/>
                </a:lnTo>
                <a:lnTo>
                  <a:pt x="1827" y="2642"/>
                </a:lnTo>
                <a:lnTo>
                  <a:pt x="1837" y="2640"/>
                </a:lnTo>
                <a:lnTo>
                  <a:pt x="1847" y="2640"/>
                </a:lnTo>
                <a:lnTo>
                  <a:pt x="1856" y="2640"/>
                </a:lnTo>
                <a:lnTo>
                  <a:pt x="1865" y="2640"/>
                </a:lnTo>
                <a:lnTo>
                  <a:pt x="1873" y="2640"/>
                </a:lnTo>
                <a:lnTo>
                  <a:pt x="1880" y="2640"/>
                </a:lnTo>
                <a:lnTo>
                  <a:pt x="1890" y="2640"/>
                </a:lnTo>
                <a:lnTo>
                  <a:pt x="1901" y="2642"/>
                </a:lnTo>
                <a:lnTo>
                  <a:pt x="1912" y="2643"/>
                </a:lnTo>
                <a:lnTo>
                  <a:pt x="1924" y="2646"/>
                </a:lnTo>
                <a:lnTo>
                  <a:pt x="1935" y="2649"/>
                </a:lnTo>
                <a:lnTo>
                  <a:pt x="1947" y="2653"/>
                </a:lnTo>
                <a:lnTo>
                  <a:pt x="1960" y="2657"/>
                </a:lnTo>
                <a:lnTo>
                  <a:pt x="1973" y="2663"/>
                </a:lnTo>
                <a:lnTo>
                  <a:pt x="1987" y="2669"/>
                </a:lnTo>
                <a:lnTo>
                  <a:pt x="2000" y="2676"/>
                </a:lnTo>
                <a:lnTo>
                  <a:pt x="2014" y="2683"/>
                </a:lnTo>
                <a:lnTo>
                  <a:pt x="2029" y="2692"/>
                </a:lnTo>
                <a:lnTo>
                  <a:pt x="2045" y="2699"/>
                </a:lnTo>
                <a:lnTo>
                  <a:pt x="2060" y="2709"/>
                </a:lnTo>
                <a:lnTo>
                  <a:pt x="2076" y="2718"/>
                </a:lnTo>
                <a:lnTo>
                  <a:pt x="2092" y="2728"/>
                </a:lnTo>
                <a:lnTo>
                  <a:pt x="2105" y="2741"/>
                </a:lnTo>
                <a:lnTo>
                  <a:pt x="2117" y="2754"/>
                </a:lnTo>
                <a:lnTo>
                  <a:pt x="2128" y="2765"/>
                </a:lnTo>
                <a:lnTo>
                  <a:pt x="2138" y="2778"/>
                </a:lnTo>
                <a:lnTo>
                  <a:pt x="2148" y="2788"/>
                </a:lnTo>
                <a:lnTo>
                  <a:pt x="2157" y="2800"/>
                </a:lnTo>
                <a:lnTo>
                  <a:pt x="2164" y="2810"/>
                </a:lnTo>
                <a:lnTo>
                  <a:pt x="2171" y="2819"/>
                </a:lnTo>
                <a:lnTo>
                  <a:pt x="2178" y="2827"/>
                </a:lnTo>
                <a:lnTo>
                  <a:pt x="2184" y="2836"/>
                </a:lnTo>
                <a:lnTo>
                  <a:pt x="2188" y="2843"/>
                </a:lnTo>
                <a:lnTo>
                  <a:pt x="2191" y="2850"/>
                </a:lnTo>
                <a:lnTo>
                  <a:pt x="2194" y="2856"/>
                </a:lnTo>
                <a:lnTo>
                  <a:pt x="2197" y="2862"/>
                </a:lnTo>
                <a:lnTo>
                  <a:pt x="2199" y="2866"/>
                </a:lnTo>
                <a:lnTo>
                  <a:pt x="2199" y="2871"/>
                </a:lnTo>
                <a:lnTo>
                  <a:pt x="2199" y="2873"/>
                </a:lnTo>
                <a:lnTo>
                  <a:pt x="2197" y="2876"/>
                </a:lnTo>
                <a:lnTo>
                  <a:pt x="2196" y="2879"/>
                </a:lnTo>
                <a:lnTo>
                  <a:pt x="2193" y="2882"/>
                </a:lnTo>
                <a:lnTo>
                  <a:pt x="2190" y="2883"/>
                </a:lnTo>
                <a:lnTo>
                  <a:pt x="2186" y="2886"/>
                </a:lnTo>
                <a:lnTo>
                  <a:pt x="2181" y="2888"/>
                </a:lnTo>
                <a:lnTo>
                  <a:pt x="2176" y="2889"/>
                </a:lnTo>
                <a:lnTo>
                  <a:pt x="2170" y="2892"/>
                </a:lnTo>
                <a:lnTo>
                  <a:pt x="2163" y="2894"/>
                </a:lnTo>
                <a:lnTo>
                  <a:pt x="2155" y="2895"/>
                </a:lnTo>
                <a:lnTo>
                  <a:pt x="2147" y="2895"/>
                </a:lnTo>
                <a:lnTo>
                  <a:pt x="2138" y="2896"/>
                </a:lnTo>
                <a:lnTo>
                  <a:pt x="2129" y="2898"/>
                </a:lnTo>
                <a:lnTo>
                  <a:pt x="2119" y="2898"/>
                </a:lnTo>
                <a:lnTo>
                  <a:pt x="2108" y="2898"/>
                </a:lnTo>
                <a:lnTo>
                  <a:pt x="2096" y="2899"/>
                </a:lnTo>
                <a:lnTo>
                  <a:pt x="2085" y="2899"/>
                </a:lnTo>
                <a:lnTo>
                  <a:pt x="2072" y="2899"/>
                </a:lnTo>
                <a:lnTo>
                  <a:pt x="2057" y="2899"/>
                </a:lnTo>
                <a:lnTo>
                  <a:pt x="2043" y="2898"/>
                </a:lnTo>
                <a:lnTo>
                  <a:pt x="2029" y="2898"/>
                </a:lnTo>
                <a:lnTo>
                  <a:pt x="2013" y="2898"/>
                </a:lnTo>
                <a:lnTo>
                  <a:pt x="1997" y="2896"/>
                </a:lnTo>
                <a:lnTo>
                  <a:pt x="1980" y="2896"/>
                </a:lnTo>
                <a:lnTo>
                  <a:pt x="1962" y="2895"/>
                </a:lnTo>
                <a:lnTo>
                  <a:pt x="1945" y="2894"/>
                </a:lnTo>
                <a:lnTo>
                  <a:pt x="1926" y="2894"/>
                </a:lnTo>
                <a:lnTo>
                  <a:pt x="1906" y="2892"/>
                </a:lnTo>
                <a:lnTo>
                  <a:pt x="1886" y="2891"/>
                </a:lnTo>
                <a:lnTo>
                  <a:pt x="1866" y="2889"/>
                </a:lnTo>
                <a:lnTo>
                  <a:pt x="1844" y="2888"/>
                </a:lnTo>
                <a:lnTo>
                  <a:pt x="1798" y="2883"/>
                </a:lnTo>
                <a:lnTo>
                  <a:pt x="1752" y="2881"/>
                </a:lnTo>
                <a:lnTo>
                  <a:pt x="1708" y="2879"/>
                </a:lnTo>
                <a:lnTo>
                  <a:pt x="1662" y="2876"/>
                </a:lnTo>
                <a:lnTo>
                  <a:pt x="1617" y="2875"/>
                </a:lnTo>
                <a:lnTo>
                  <a:pt x="1574" y="2875"/>
                </a:lnTo>
                <a:lnTo>
                  <a:pt x="1529" y="2873"/>
                </a:lnTo>
                <a:lnTo>
                  <a:pt x="1486" y="2873"/>
                </a:lnTo>
                <a:lnTo>
                  <a:pt x="1444" y="2873"/>
                </a:lnTo>
                <a:lnTo>
                  <a:pt x="1401" y="2875"/>
                </a:lnTo>
                <a:lnTo>
                  <a:pt x="1359" y="2875"/>
                </a:lnTo>
                <a:lnTo>
                  <a:pt x="1318" y="2876"/>
                </a:lnTo>
                <a:lnTo>
                  <a:pt x="1276" y="2879"/>
                </a:lnTo>
                <a:lnTo>
                  <a:pt x="1235" y="2881"/>
                </a:lnTo>
                <a:lnTo>
                  <a:pt x="1195" y="2883"/>
                </a:lnTo>
                <a:lnTo>
                  <a:pt x="1155" y="2888"/>
                </a:lnTo>
                <a:lnTo>
                  <a:pt x="1116" y="2891"/>
                </a:lnTo>
                <a:lnTo>
                  <a:pt x="1076" y="2895"/>
                </a:lnTo>
                <a:lnTo>
                  <a:pt x="1037" y="2899"/>
                </a:lnTo>
                <a:lnTo>
                  <a:pt x="999" y="2904"/>
                </a:lnTo>
                <a:lnTo>
                  <a:pt x="961" y="2908"/>
                </a:lnTo>
                <a:lnTo>
                  <a:pt x="923" y="2912"/>
                </a:lnTo>
                <a:lnTo>
                  <a:pt x="886" y="2918"/>
                </a:lnTo>
                <a:lnTo>
                  <a:pt x="850" y="2922"/>
                </a:lnTo>
                <a:lnTo>
                  <a:pt x="814" y="2928"/>
                </a:lnTo>
                <a:lnTo>
                  <a:pt x="778" y="2932"/>
                </a:lnTo>
                <a:lnTo>
                  <a:pt x="742" y="2937"/>
                </a:lnTo>
                <a:lnTo>
                  <a:pt x="707" y="2942"/>
                </a:lnTo>
                <a:lnTo>
                  <a:pt x="673" y="2947"/>
                </a:lnTo>
                <a:lnTo>
                  <a:pt x="638" y="2951"/>
                </a:lnTo>
                <a:lnTo>
                  <a:pt x="605" y="2954"/>
                </a:lnTo>
                <a:lnTo>
                  <a:pt x="572" y="2958"/>
                </a:lnTo>
                <a:lnTo>
                  <a:pt x="555" y="2960"/>
                </a:lnTo>
                <a:lnTo>
                  <a:pt x="539" y="2963"/>
                </a:lnTo>
                <a:lnTo>
                  <a:pt x="523" y="2964"/>
                </a:lnTo>
                <a:lnTo>
                  <a:pt x="508" y="2967"/>
                </a:lnTo>
                <a:lnTo>
                  <a:pt x="493" y="2970"/>
                </a:lnTo>
                <a:lnTo>
                  <a:pt x="478" y="2971"/>
                </a:lnTo>
                <a:lnTo>
                  <a:pt x="465" y="2974"/>
                </a:lnTo>
                <a:lnTo>
                  <a:pt x="451" y="2977"/>
                </a:lnTo>
                <a:lnTo>
                  <a:pt x="438" y="2981"/>
                </a:lnTo>
                <a:lnTo>
                  <a:pt x="425" y="2984"/>
                </a:lnTo>
                <a:lnTo>
                  <a:pt x="413" y="2987"/>
                </a:lnTo>
                <a:lnTo>
                  <a:pt x="401" y="2991"/>
                </a:lnTo>
                <a:lnTo>
                  <a:pt x="389" y="2994"/>
                </a:lnTo>
                <a:lnTo>
                  <a:pt x="377" y="2999"/>
                </a:lnTo>
                <a:lnTo>
                  <a:pt x="367" y="3003"/>
                </a:lnTo>
                <a:lnTo>
                  <a:pt x="356" y="3007"/>
                </a:lnTo>
                <a:lnTo>
                  <a:pt x="346" y="3012"/>
                </a:lnTo>
                <a:lnTo>
                  <a:pt x="336" y="3016"/>
                </a:lnTo>
                <a:lnTo>
                  <a:pt x="318" y="3025"/>
                </a:lnTo>
                <a:lnTo>
                  <a:pt x="301" y="3033"/>
                </a:lnTo>
                <a:lnTo>
                  <a:pt x="285" y="3043"/>
                </a:lnTo>
                <a:lnTo>
                  <a:pt x="271" y="3052"/>
                </a:lnTo>
                <a:lnTo>
                  <a:pt x="257" y="3062"/>
                </a:lnTo>
                <a:lnTo>
                  <a:pt x="245" y="3072"/>
                </a:lnTo>
                <a:lnTo>
                  <a:pt x="235" y="30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10" descr=""/>
          <p:cNvPicPr/>
          <p:nvPr/>
        </p:nvPicPr>
        <p:blipFill>
          <a:blip r:embed="rId2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8" name="组合 2"/>
          <p:cNvGrpSpPr/>
          <p:nvPr/>
        </p:nvGrpSpPr>
        <p:grpSpPr>
          <a:xfrm>
            <a:off x="654120" y="1120680"/>
            <a:ext cx="2905200" cy="666720"/>
            <a:chOff x="654120" y="1120680"/>
            <a:chExt cx="2905200" cy="666720"/>
          </a:xfrm>
        </p:grpSpPr>
        <p:sp>
          <p:nvSpPr>
            <p:cNvPr id="99" name="圆角矩形 20"/>
            <p:cNvSpPr/>
            <p:nvPr/>
          </p:nvSpPr>
          <p:spPr>
            <a:xfrm>
              <a:off x="1469880" y="125856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654120" y="112068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729440" y="127764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4">
            <a:hlinkClick r:id="rId1" action="ppaction://hlinksldjump"/>
          </p:cNvPr>
          <p:cNvSpPr/>
          <p:nvPr/>
        </p:nvSpPr>
        <p:spPr>
          <a:xfrm>
            <a:off x="4352400" y="30686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2"/>
          <p:cNvGrpSpPr/>
          <p:nvPr/>
        </p:nvGrpSpPr>
        <p:grpSpPr>
          <a:xfrm>
            <a:off x="654120" y="1120680"/>
            <a:ext cx="2905200" cy="666720"/>
            <a:chOff x="654120" y="1120680"/>
            <a:chExt cx="2905200" cy="666720"/>
          </a:xfrm>
        </p:grpSpPr>
        <p:sp>
          <p:nvSpPr>
            <p:cNvPr id="104" name="圆角矩形 17"/>
            <p:cNvSpPr/>
            <p:nvPr/>
          </p:nvSpPr>
          <p:spPr>
            <a:xfrm>
              <a:off x="1469880" y="125856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54120" y="112068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文本框 16"/>
            <p:cNvSpPr/>
            <p:nvPr/>
          </p:nvSpPr>
          <p:spPr>
            <a:xfrm>
              <a:off x="1729440" y="127764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矩形 3"/>
          <p:cNvSpPr/>
          <p:nvPr/>
        </p:nvSpPr>
        <p:spPr>
          <a:xfrm>
            <a:off x="4041720" y="2389320"/>
            <a:ext cx="146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1504800" y="2446200"/>
            <a:ext cx="74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渴望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矩形 1"/>
          <p:cNvSpPr/>
          <p:nvPr/>
        </p:nvSpPr>
        <p:spPr>
          <a:xfrm>
            <a:off x="2459160" y="2444760"/>
            <a:ext cx="64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迫切地希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同学们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渴望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见到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内容占位符 2"/>
          <p:cNvSpPr/>
          <p:nvPr/>
        </p:nvSpPr>
        <p:spPr>
          <a:xfrm>
            <a:off x="888840" y="1976400"/>
            <a:ext cx="754884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诗人心中的“自由”有怎样的含义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读课文，说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囚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一诗是在怎样的背景下写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囚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这首诗中几处提到“自由”？每处“自由”指的是不是一回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8"/>
          <p:cNvSpPr/>
          <p:nvPr/>
        </p:nvSpPr>
        <p:spPr>
          <a:xfrm>
            <a:off x="873000" y="1714680"/>
            <a:ext cx="77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小节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国民党反动派对革命者威逼利诱的手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小节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诗人渴望的是真正的自由，而不是跪在敌人面前出卖革命、出卖灵魂所换取的自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小节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诗人不怕牺牲，追求自由的理想和信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335400" y="290520"/>
            <a:ext cx="2473200" cy="649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7"/>
          <p:cNvSpPr/>
          <p:nvPr/>
        </p:nvSpPr>
        <p:spPr>
          <a:xfrm>
            <a:off x="1374840" y="3254400"/>
            <a:ext cx="6732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表现了诗人对革命真理的坚持和为革命事业献身的壮志豪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814320" y="1665360"/>
            <a:ext cx="73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一说这首诗歌中体现了作者什么样的情感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07:53:01Z</dcterms:modified>
  <cp:revision>4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